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12.jpeg" ContentType="image/jpeg"/>
  <Override PartName="/ppt/media/image37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40.wmf" ContentType="image/x-wmf"/>
  <Override PartName="/ppt/media/image7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31.jpeg" ContentType="image/jpeg"/>
  <Override PartName="/ppt/media/image4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5914-1ED8-4458-8F5A-D68618A6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FB90-0583-4E1D-9569-AF56B9CC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6BB2-DC4C-4BB1-A668-2582EC45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77E4-52CA-40F1-A487-70C5C65C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4C0A-6635-4C46-9D3E-FC9BB703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8ACA-B0CE-46D0-A717-CB35E84B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B273-5CEF-42C6-AC0F-49851A75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43BD-E462-4F6C-BD04-F57C2045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90F0-62C6-4E22-9AA9-3F834EBB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31C5-79F9-44EA-8DC2-6DE4719E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F78D-10BC-46A6-8BA3-B15D71C0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B64D-5DAF-492D-8E4A-6602179C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906E-E1B3-4D08-8875-77234AD0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B39F-43B3-4BFA-8791-FF98770D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AE45-F878-48B5-BA2F-70F33182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4DC6-8AAF-4B99-A5C3-0D6090F7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B4D7-277D-4E83-9FD5-DFD24117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5AD2-347C-4AD8-94A6-5B1A719C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688D-E99D-446C-BFEE-36B08D32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9789-009B-44F6-A629-99C21445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6DA5-5AE7-4E9A-83EB-5AB0151F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2341-E797-4EED-8DC9-F4BE8A18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5DF6-8D17-418B-98EB-089F6901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84C0-27B7-40FD-8434-B16FF08B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8385B-5D11-4A33-A0FA-2070256D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159F0-2EF9-4951-9263-1CCAB12F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5CC4C-671D-4E1F-8A48-FF0308FA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E1AB9-7CF9-45B7-AA7E-14EFC0C7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F9A0D-2AD4-4B30-BB81-6037E954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58139-BFD3-4125-99E9-EA529E9D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A04D7-9326-43E6-BB2E-0D41C0DD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9A53F-3EC2-4692-85C3-B35E32B5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1352D-1ABF-453E-A1C6-7D5BD9F2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D78C0-F0C5-40A0-8CBB-AF290C8B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E4025-B8B8-4CF7-A267-68EAC8B3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A0639-E0FF-4ADC-A84C-78475BF9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2ED41-032F-41D0-8839-6972B9E2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D45FE-6C16-40B9-94B4-66BC23B7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7AEF2-B96B-4F3B-A925-90B78889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DE420-92D4-4604-B100-1432A42C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13A2E-9876-4DB0-96A3-034C6B94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35E76-8ACE-4DB0-899F-36A08FC5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58314-7363-4860-9F4B-6D6EDB9E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C54CE-0B27-43D2-B3A6-D39BBBAD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62F82-290A-488E-A5F1-9B4B8288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8F1E7-AE8C-4B6D-B533-AE248DB5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A37FB-E193-4C7C-94E6-F4B077E8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BB066-A064-4D5B-8AF6-9C51D09E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193B-4D80-4378-9906-501E3E3DD11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1569-1AF2-4057-9B7C-68E6D17AB1E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FDDD-965F-4AEB-ADE1-C5C653180DA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242B-213D-48E7-8F19-1ABA354DA01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Е СТРУКОВНЕ СТУДИЈЕ</a:t>
            </a:r>
            <a:br>
              <a:rPr sz="1800"/>
            </a:b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колс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4/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ва годи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в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естар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ологиј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5666040" y="616572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ц. др Владимир Живко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Rectangle 5" descr=""/>
          <p:cNvPicPr/>
          <p:nvPr/>
        </p:nvPicPr>
        <p:blipFill>
          <a:blip r:embed="rId1"/>
          <a:stretch/>
        </p:blipFill>
        <p:spPr>
          <a:xfrm>
            <a:off x="219240" y="2530440"/>
            <a:ext cx="86994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7-4"/>
          <p:cNvPicPr/>
          <p:nvPr/>
        </p:nvPicPr>
        <p:blipFill>
          <a:blip r:embed="rId1"/>
          <a:stretch/>
        </p:blipFill>
        <p:spPr>
          <a:xfrm>
            <a:off x="5292720" y="1989000"/>
            <a:ext cx="3672000" cy="4175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тенцијал завршне плоче и ексцитација скелетног мишићног влак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5292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цетилхолин ослобођен из везикула наставља да делује на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рецепторе све док се налази у синаптичком простору (неколик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клањање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из синаптичког просто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цетилхолинестераза – разграђује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ацетатни јо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дифундује из синаптичког простора) и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холи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активно се преузима натраг у нервну ћелију где служи за синтезу новог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дифузија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из синаптичког простора (мала колич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упстанце које мењају трансмисију у неуромишићној спојниц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упстанце које стимулишу мишићно влакно дејством попут ацетилхолин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(метахолин, карбахол, никот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ају исто дејство на рецепторе као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цетихолин-естераза их не разла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бог продуженог дејства на мишићно влакно изазивају спазам миши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упстанце које блокирају трансмисију на неуромишићној спојници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(курариформне супстанц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локирају дејства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на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рецепторе везивањем за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рецепторе (компетитивна инхибициј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упстанце које мењају трансмисију у неуромишићној спојниц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2708280"/>
            <a:ext cx="91440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упстанце које стимулишу неуромишићну спојницу инактивацијом ацетихолин-естераз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(неостигмин, физиостигмин, ди-изопропил-флуоро-фосфа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активирају ацетихолин-естера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бог продуженог дејства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на мишићно влакно изазивају спазам миши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astenia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ravis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– аутоимуно обољење – антитела која се везују за транспортне протеине ацетилхолин-зависних натријумских канала (смањење неуромишићне трансмисиј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539640" y="1557360"/>
          <a:ext cx="8001000" cy="4529160"/>
        </p:xfrm>
        <a:graphic>
          <a:graphicData uri="http://schemas.openxmlformats.org/drawingml/2006/table">
            <a:tbl>
              <a:tblPr/>
              <a:tblGrid>
                <a:gridCol w="2197080"/>
                <a:gridCol w="2379960"/>
                <a:gridCol w="3423960"/>
              </a:tblGrid>
              <a:tr h="88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упстан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ј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фекти на неуромускуларну трансмисиј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tulinus tox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лок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р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лобађањ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ch 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з пресинапт</a:t>
                      </a: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ког терм</a:t>
                      </a: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л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тал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блокад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r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 компетиц</a:t>
                      </a: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ји је с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h 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цeптоr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a мotornoј завршnoj пло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мањује величину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PP; ма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сималне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зазивају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арал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зу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спирацијских мишића и см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ostigm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хиби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ацет</a:t>
                      </a: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цхолинестера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дужава и повећава активност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h 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мишићној завршној пло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micholin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лок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ра поновно преузимање холина у пресинаптички завршет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азни депое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h 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з пресинаптичког терми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Text Box 28"/>
          <p:cNvSpPr/>
          <p:nvPr/>
        </p:nvSpPr>
        <p:spPr>
          <a:xfrm>
            <a:off x="2151720" y="6308640"/>
            <a:ext cx="496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ch = ацет</a:t>
            </a:r>
            <a:r>
              <a:rPr b="0" i="1" lang="sr-Latn-CS" sz="1400" spc="-1" strike="noStrike">
                <a:solidFill>
                  <a:srgbClr val="000000"/>
                </a:solidFill>
                <a:latin typeface="Verdana"/>
              </a:rPr>
              <a:t>илхо</a:t>
            </a:r>
            <a:r>
              <a:rPr b="0" i="1" lang="sr-CS" sz="14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i="1" lang="sr-Latn-CS" sz="14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;  ЕPP = </a:t>
            </a:r>
            <a:r>
              <a:rPr b="0" i="1" lang="sr-Latn-CS" sz="1400" spc="-1" strike="noStrike">
                <a:solidFill>
                  <a:srgbClr val="000000"/>
                </a:solidFill>
                <a:latin typeface="Verdana"/>
              </a:rPr>
              <a:t>потенцијал зaврш</a:t>
            </a:r>
            <a:r>
              <a:rPr b="0" i="1" lang="sr-C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i="1" lang="sr-Latn-CS" sz="14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0" i="1" lang="sr-CS" sz="1400" spc="-1" strike="noStrike">
                <a:solidFill>
                  <a:srgbClr val="000000"/>
                </a:solidFill>
                <a:latin typeface="Arial"/>
              </a:rPr>
              <a:t>пл</a:t>
            </a:r>
            <a:r>
              <a:rPr b="0" i="1" lang="sr-Latn-CS" sz="1400" spc="-1" strike="noStrike">
                <a:solidFill>
                  <a:srgbClr val="000000"/>
                </a:solidFill>
                <a:latin typeface="Verdana"/>
              </a:rPr>
              <a:t>oчe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9"/>
          <p:cNvSpPr/>
          <p:nvPr/>
        </p:nvSpPr>
        <p:spPr>
          <a:xfrm>
            <a:off x="700200" y="1052640"/>
            <a:ext cx="760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упстанце које утичу на неуромускуларну трансмис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2" descr=""/>
          <p:cNvPicPr/>
          <p:nvPr/>
        </p:nvPicPr>
        <p:blipFill>
          <a:blip r:embed="rId1"/>
          <a:stretch/>
        </p:blipFill>
        <p:spPr>
          <a:xfrm>
            <a:off x="1974960" y="1828800"/>
            <a:ext cx="51814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ункционална анатомија скелетног миши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6432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Скелетни мишићи чине 40% телесне масе људског организма (заједно са глатким и срчаним мишићем око 50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Скелетни мишић се састоји од мишићних влакана (дијаметар 10-80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Свако мишићно влакно се пружа целом дужином мишић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Свако мишићно влакно је инервисано једним нервним влакном (најчешће у близини средине влакн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Сарколема – ћелијска мембрана мишићног влакна – се састоји о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плазма мембране (права ћелијска мембра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спољашњег омотача (танки слој полисахарида и колагених влакана) који се на крају мишићног влакна стапа са тетивним влакнима и формира тетиву која се припаја за к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7" descr="6-1a"/>
          <p:cNvPicPr/>
          <p:nvPr/>
        </p:nvPicPr>
        <p:blipFill>
          <a:blip r:embed="rId1"/>
          <a:stretch/>
        </p:blipFill>
        <p:spPr>
          <a:xfrm>
            <a:off x="4572000" y="1389240"/>
            <a:ext cx="455940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4788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о мишићно влакно садржи неколико стотина до неколико хиљад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миофибрил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а миофибрила садрж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ко 1500 миозинских филамената (дебели филамен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ко 3000 актинских филамената (танки филамен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тинске филаменте (ММ око 3 000 000) – омогућавају одржавање одговарајућег просторног распореда актинских и миозинских филамен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дискове – структуре састављене од филаментозних протеина, пролазе попречно кроз миофибрилу и причвршћују миофибриле једну за друг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7" descr="6-1a"/>
          <p:cNvPicPr/>
          <p:nvPr/>
        </p:nvPicPr>
        <p:blipFill>
          <a:blip r:embed="rId1"/>
          <a:stretch/>
        </p:blipFill>
        <p:spPr>
          <a:xfrm>
            <a:off x="4788000" y="1384200"/>
            <a:ext cx="43560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0726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4932360" cy="666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арактеристично преклапање актинских и миозинских филамената представља једну од основних карактеристика скелетне мускулатуре – попречно-пругасти мишић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пруге (изотропне за поларизовану светлост) – садрже само актинске филамен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 пруге (анизотропне за поларизовану светлост) – садрже миозинске и крајеве актинских филамен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средин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пруге се налаз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диско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ео миофибриле између д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диска се назива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саркомер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основна функционална јединица мишићног влак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осечна дужина саркомере је око 2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6-2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32925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6-4"/>
          <p:cNvPicPr/>
          <p:nvPr/>
        </p:nvPicPr>
        <p:blipFill>
          <a:blip r:embed="rId2"/>
          <a:stretch/>
        </p:blipFill>
        <p:spPr>
          <a:xfrm>
            <a:off x="4932360" y="3284640"/>
            <a:ext cx="42116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лекулске карактеристике контрактилних филам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5508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иозински филамент се састоји од миозинских молеку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Молекул миози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ММ 480 000) се састоји од 6 ланац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 тешка ланца (ММ 200 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 лака ланца (ММ 20 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ва тешка ланца се међусобно спирално обавијају формирајући двоструки хеликс –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реп миозинског молеку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рајеви оба тешка ланца се одвајају и набирајући се формирају глобуларну полипептидну структуру –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глава миозинског молеку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Четири лака ланца улазе у састав главе миозинског молекула (имају регулаторну улог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1" descr="6-5"/>
          <p:cNvPicPr/>
          <p:nvPr/>
        </p:nvPicPr>
        <p:blipFill>
          <a:blip r:embed="rId1"/>
          <a:stretch/>
        </p:blipFill>
        <p:spPr>
          <a:xfrm>
            <a:off x="5381640" y="1628640"/>
            <a:ext cx="37623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80960" y="1968480"/>
            <a:ext cx="84549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лекулске карактеристике контрактилних филам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4537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900" spc="-1" strike="noStrike">
                <a:solidFill>
                  <a:srgbClr val="000000"/>
                </a:solidFill>
                <a:latin typeface="Arial"/>
              </a:rPr>
              <a:t>Миозински филамент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  се састоји од око 200 миозинских молекул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Репови миозинских молекула формирају </a:t>
            </a:r>
            <a:r>
              <a:rPr b="0" i="1" lang="sr-Latn-CS" sz="1900" spc="-1" strike="noStrike">
                <a:solidFill>
                  <a:srgbClr val="000000"/>
                </a:solidFill>
                <a:latin typeface="Arial"/>
              </a:rPr>
              <a:t>тело миозинског филамента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Део репова миозинских молекула (близу главе) се одваја од тела и формира </a:t>
            </a:r>
            <a:r>
              <a:rPr b="0" i="1" lang="sr-Latn-CS" sz="1900" spc="-1" strike="noStrike">
                <a:solidFill>
                  <a:srgbClr val="000000"/>
                </a:solidFill>
                <a:latin typeface="Arial"/>
              </a:rPr>
              <a:t>руку миозинског филамента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 на чијем се крају налази </a:t>
            </a:r>
            <a:r>
              <a:rPr b="0" i="1" lang="sr-Latn-CS" sz="1900" spc="-1" strike="noStrike">
                <a:solidFill>
                  <a:srgbClr val="000000"/>
                </a:solidFill>
                <a:latin typeface="Arial"/>
              </a:rPr>
              <a:t>глава миозинског филамента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1900" spc="-1" strike="noStrike" u="sng">
                <a:solidFill>
                  <a:srgbClr val="000000"/>
                </a:solidFill>
                <a:uFillTx/>
                <a:latin typeface="Arial"/>
              </a:rPr>
              <a:t>рука + глава = </a:t>
            </a:r>
            <a:r>
              <a:rPr b="0" i="1" lang="sr-Latn-CS" sz="1900" spc="-1" strike="noStrike" u="sng">
                <a:solidFill>
                  <a:srgbClr val="000000"/>
                </a:solidFill>
                <a:uFillTx/>
                <a:latin typeface="Arial"/>
              </a:rPr>
              <a:t>попречни мост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Попречни мост је савитљив на два места – спој тела и руке и спој руке и глав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Дужина миозинског филамента је 1.6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м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Сваки пар попречних мостова је аксијално померен за 120</a:t>
            </a:r>
            <a:r>
              <a:rPr b="0" lang="sr-Latn-CS" sz="19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У центру миозинског филамента нема попречних мостова (око 0.2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m)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7" descr="6-5"/>
          <p:cNvPicPr/>
          <p:nvPr/>
        </p:nvPicPr>
        <p:blipFill>
          <a:blip r:embed="rId1"/>
          <a:stretch/>
        </p:blipFill>
        <p:spPr>
          <a:xfrm>
            <a:off x="4791240" y="1773360"/>
            <a:ext cx="435276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лекулске карактеристике контрактилних филам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Актински филамент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се сатоји од три протеинске компонен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к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тропомиоз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тропо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Акти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ктински филамент чине две врпц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актинског молекула увијене у двоструки хеликс. Свака врпц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актина се састоји од полимеризованих молеку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актина (ММ 42 000). У свакој револуцији хеликса се налази 13 молеку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акт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За сваки молекул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-актина је везан по један молекул 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P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-а (активна места на актинским филаментима)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ваки актински филамент је дуг око 1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Базе актинских филамената су усађене 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дисков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7" descr="6-6"/>
          <p:cNvPicPr/>
          <p:nvPr/>
        </p:nvPicPr>
        <p:blipFill>
          <a:blip r:embed="rId1"/>
          <a:stretch/>
        </p:blipFill>
        <p:spPr>
          <a:xfrm>
            <a:off x="2484360" y="4716360"/>
            <a:ext cx="46087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533520" y="4191120"/>
            <a:ext cx="8001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99cc00"/>
                </a:solidFill>
                <a:latin typeface="Arial"/>
              </a:rPr>
              <a:t>Тропонин</a:t>
            </a:r>
            <a:r>
              <a:rPr b="1" lang="sr-Latn-C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је комплекс од три глобуларна протеина</a:t>
            </a:r>
            <a:r>
              <a:rPr b="0" lang="sr-Latn-CS" sz="20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99cc00"/>
                </a:solidFill>
                <a:latin typeface="Arial"/>
              </a:rPr>
              <a:t>Тропонин T -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ичвршћује тропонински комплекс за тропомиоз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99cc00"/>
                </a:solidFill>
                <a:latin typeface="Arial"/>
              </a:rPr>
              <a:t>Тропонин I  -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нхибира интеракцију између актина и миоз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99cc00"/>
                </a:solidFill>
                <a:latin typeface="Arial"/>
              </a:rPr>
              <a:t>Тропонин C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је 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везујући протеин који, када веж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могућава интеракцију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тина 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иоз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538560" y="762120"/>
            <a:ext cx="243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Танки филамен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lastscan"/>
          <p:cNvPicPr/>
          <p:nvPr/>
        </p:nvPicPr>
        <p:blipFill>
          <a:blip r:embed="rId1"/>
          <a:stretch/>
        </p:blipFill>
        <p:spPr>
          <a:xfrm>
            <a:off x="1371600" y="1676520"/>
            <a:ext cx="60199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7162560" cy="262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0" y="2662200"/>
          <a:ext cx="243000" cy="1077840"/>
        </p:xfrm>
        <a:graphic>
          <a:graphicData uri="http://schemas.openxmlformats.org/drawingml/2006/table">
            <a:tbl>
              <a:tblPr/>
              <a:tblGrid>
                <a:gridCol w="243000"/>
              </a:tblGrid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Rectangle 10"/>
          <p:cNvSpPr/>
          <p:nvPr/>
        </p:nvSpPr>
        <p:spPr>
          <a:xfrm>
            <a:off x="6120" y="3738960"/>
            <a:ext cx="24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sr-Latn-CS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684360" y="7200"/>
            <a:ext cx="69832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cc00"/>
                </a:solidFill>
                <a:latin typeface="Arial"/>
              </a:rPr>
              <a:t>Дебели филаменти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 (миозинс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 налазе у централном делу саркомере у тзв. “А”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 пруг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2"/>
          <p:cNvSpPr/>
          <p:nvPr/>
        </p:nvSpPr>
        <p:spPr>
          <a:xfrm flipV="1">
            <a:off x="1600200" y="1981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3"/>
          <p:cNvSpPr/>
          <p:nvPr/>
        </p:nvSpPr>
        <p:spPr>
          <a:xfrm>
            <a:off x="1600200" y="19810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4"/>
          <p:cNvSpPr/>
          <p:nvPr/>
        </p:nvSpPr>
        <p:spPr>
          <a:xfrm>
            <a:off x="358128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3581280" y="60199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6"/>
          <p:cNvSpPr/>
          <p:nvPr/>
        </p:nvSpPr>
        <p:spPr>
          <a:xfrm flipV="1">
            <a:off x="5791320" y="5257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7"/>
          <p:cNvSpPr/>
          <p:nvPr/>
        </p:nvSpPr>
        <p:spPr>
          <a:xfrm>
            <a:off x="2209680" y="4800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6934320" y="4800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9"/>
          <p:cNvSpPr/>
          <p:nvPr/>
        </p:nvSpPr>
        <p:spPr>
          <a:xfrm>
            <a:off x="2209680" y="655308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0"/>
          <p:cNvSpPr/>
          <p:nvPr/>
        </p:nvSpPr>
        <p:spPr>
          <a:xfrm>
            <a:off x="1252800" y="5181480"/>
            <a:ext cx="92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 лин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1"/>
          <p:cNvSpPr/>
          <p:nvPr/>
        </p:nvSpPr>
        <p:spPr>
          <a:xfrm>
            <a:off x="7486920" y="5187960"/>
            <a:ext cx="92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 лин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4132080" y="518148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 лин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3"/>
          <p:cNvSpPr/>
          <p:nvPr/>
        </p:nvSpPr>
        <p:spPr>
          <a:xfrm>
            <a:off x="4291560" y="5943600"/>
            <a:ext cx="8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 </a:t>
            </a:r>
            <a:r>
              <a:rPr b="0" lang="sr-CS" sz="1400" spc="-1" strike="noStrike">
                <a:solidFill>
                  <a:srgbClr val="000000"/>
                </a:solidFill>
                <a:latin typeface="Verdana"/>
              </a:rPr>
              <a:t>пр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4"/>
          <p:cNvSpPr/>
          <p:nvPr/>
        </p:nvSpPr>
        <p:spPr>
          <a:xfrm>
            <a:off x="3625920" y="65530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5"/>
          <p:cNvSpPr/>
          <p:nvPr/>
        </p:nvSpPr>
        <p:spPr>
          <a:xfrm>
            <a:off x="4294800" y="655308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sr-CS" sz="1400" spc="-1" strike="noStrike">
                <a:solidFill>
                  <a:srgbClr val="000000"/>
                </a:solidFill>
                <a:latin typeface="Verdana"/>
              </a:rPr>
              <a:t>пр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6"/>
          <p:cNvSpPr/>
          <p:nvPr/>
        </p:nvSpPr>
        <p:spPr>
          <a:xfrm>
            <a:off x="3903480" y="1905120"/>
            <a:ext cx="114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ар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омер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7"/>
          <p:cNvSpPr/>
          <p:nvPr/>
        </p:nvSpPr>
        <p:spPr>
          <a:xfrm flipV="1">
            <a:off x="701028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8"/>
          <p:cNvSpPr/>
          <p:nvPr/>
        </p:nvSpPr>
        <p:spPr>
          <a:xfrm>
            <a:off x="7010280" y="2438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9"/>
          <p:cNvSpPr/>
          <p:nvPr/>
        </p:nvSpPr>
        <p:spPr>
          <a:xfrm>
            <a:off x="815328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762012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1"/>
          <p:cNvSpPr/>
          <p:nvPr/>
        </p:nvSpPr>
        <p:spPr>
          <a:xfrm>
            <a:off x="7179480" y="213984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0" lang="sr-CS" sz="1400" spc="-1" strike="noStrike">
                <a:solidFill>
                  <a:srgbClr val="000000"/>
                </a:solidFill>
                <a:latin typeface="Verdana"/>
              </a:rPr>
              <a:t>пр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80880" y="718200"/>
            <a:ext cx="3124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cc00"/>
                </a:solidFill>
                <a:latin typeface="Arial"/>
              </a:rPr>
              <a:t>T тубул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и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дубоке инвагинације сарколеме (мембране), које преносе деполаризациј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мбране дубоко у унутра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њост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лије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-су лоцирани у ниво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 лин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иј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-садрже волтаж-зависни  протеин, назван дихидропиридински рецеп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од великог је значаја у мишићним ћелијама срца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lastscan"/>
          <p:cNvPicPr/>
          <p:nvPr/>
        </p:nvPicPr>
        <p:blipFill>
          <a:blip r:embed="rId1"/>
          <a:stretch/>
        </p:blipFill>
        <p:spPr>
          <a:xfrm>
            <a:off x="4788000" y="836640"/>
            <a:ext cx="431640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152280" y="1575000"/>
            <a:ext cx="396252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Сар</a:t>
            </a:r>
            <a:r>
              <a:rPr b="1" lang="sr-Latn-CS" sz="1800" spc="-1" strike="noStrike">
                <a:solidFill>
                  <a:srgbClr val="99cc00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опла</a:t>
            </a:r>
            <a:r>
              <a:rPr b="1" lang="sr-Latn-CS" sz="1800" spc="-1" strike="noStrike">
                <a:solidFill>
                  <a:srgbClr val="99cc00"/>
                </a:solidFill>
                <a:latin typeface="Arial"/>
              </a:rPr>
              <a:t>зматски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 рети</a:t>
            </a:r>
            <a:r>
              <a:rPr b="1" lang="sr-Latn-CS" sz="1800" spc="-1" strike="noStrike">
                <a:solidFill>
                  <a:srgbClr val="99cc00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улум</a:t>
            </a:r>
            <a:r>
              <a:rPr b="1" lang="sr-Latn-CS" sz="1800" spc="-1" strike="noStrike">
                <a:solidFill>
                  <a:srgbClr val="99cc00"/>
                </a:solidFill>
                <a:latin typeface="Arial"/>
              </a:rPr>
              <a:t> (С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је тубуларна структура унутар ћелије, место где се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sr-Latn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прикупља и ослобађа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процес повезивања ексцитације и контракциј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поседује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терминалне цистерне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које остварују близак контакт са Т тубулама формирајући трија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1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3" descr="lastscan"/>
          <p:cNvPicPr/>
          <p:nvPr/>
        </p:nvPicPr>
        <p:blipFill>
          <a:blip r:embed="rId1"/>
          <a:stretch/>
        </p:blipFill>
        <p:spPr>
          <a:xfrm>
            <a:off x="4859280" y="744480"/>
            <a:ext cx="424512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59403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Квантитативна својства потенцијала 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елетним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ишићи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ировни мембрански потенцијал -80 до -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V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као у дебелим мијелинским нервним влакни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трајање акционог потенцијала 1-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5x 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дуж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него у дебелим мијелинским нервним влакни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брзина к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кције 3-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1/13 брзине кондукције у дебелим мијелинским нервним влакни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кциони потенцијали у мишићима се пропагирај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дуж површине 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ијск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ембр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дуж трансверзалних тубула (Т-тубул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9" descr="6-3"/>
          <p:cNvPicPr/>
          <p:nvPr/>
        </p:nvPicPr>
        <p:blipFill>
          <a:blip r:embed="rId1"/>
          <a:stretch/>
        </p:blipFill>
        <p:spPr>
          <a:xfrm>
            <a:off x="5435640" y="3213000"/>
            <a:ext cx="3708360" cy="364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1847880" y="1755720"/>
            <a:ext cx="6411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468360" y="0"/>
            <a:ext cx="8229600" cy="26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cc00"/>
                </a:solidFill>
                <a:latin typeface="Verdana"/>
                <a:ea typeface="Verdana"/>
              </a:rPr>
              <a:t>Кораци у повезивању ексцитације и контракције у скелетном мишић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1.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Акциони потенцијали у 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ћелијској мембрани мишића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(сар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к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олема)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 иницирају деполаризацију</a:t>
            </a:r>
            <a:r>
              <a:rPr b="0" lang="sr-CS" sz="1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Т тубу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2.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Деполаризација Т тубула 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отвара велики број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C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а</a:t>
            </a:r>
            <a:r>
              <a:rPr b="0" lang="sr-Latn-CS" sz="14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2+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-канала на цистернама и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лонгитудиналним тубулима саркоплазматског ретикулум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(C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а</a:t>
            </a:r>
            <a:r>
              <a:rPr b="0" lang="sr-Latn-CS" sz="14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2+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-зависн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канал који ослобађа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C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а</a:t>
            </a:r>
            <a:r>
              <a:rPr b="0" lang="sr-Latn-CS" sz="1400" spc="-1" strike="noStrike" baseline="30000">
                <a:solidFill>
                  <a:srgbClr val="000000"/>
                </a:solidFill>
                <a:latin typeface="Verdana"/>
                <a:ea typeface="Verdana"/>
              </a:rPr>
              <a:t>2+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 - </a:t>
            </a:r>
            <a:r>
              <a:rPr b="0" lang="sr-Latn-CS" sz="1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рианодин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 </a:t>
            </a:r>
            <a:r>
              <a:rPr b="0" lang="sr-Latn-CS" sz="1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рецепто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 - 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велик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и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  <a:ea typeface="Verdana"/>
              </a:rPr>
              <a:t> значај у мишићним ћелијама срц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" descr="lastscan"/>
          <p:cNvPicPr/>
          <p:nvPr/>
        </p:nvPicPr>
        <p:blipFill>
          <a:blip r:embed="rId1"/>
          <a:stretch/>
        </p:blipFill>
        <p:spPr>
          <a:xfrm>
            <a:off x="609480" y="2819520"/>
            <a:ext cx="6782040" cy="387972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7620120" y="3733920"/>
            <a:ext cx="9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 туб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546320" y="274320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арко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7607880" y="44560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Цистерне 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 flipH="1">
            <a:off x="6705720" y="2971800"/>
            <a:ext cx="8380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8"/>
          <p:cNvSpPr/>
          <p:nvPr/>
        </p:nvSpPr>
        <p:spPr>
          <a:xfrm flipH="1">
            <a:off x="5562720" y="3962520"/>
            <a:ext cx="2133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9"/>
          <p:cNvSpPr/>
          <p:nvPr/>
        </p:nvSpPr>
        <p:spPr>
          <a:xfrm flipH="1" flipV="1">
            <a:off x="5943240" y="4343040"/>
            <a:ext cx="1676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0"/>
          <p:cNvSpPr/>
          <p:nvPr/>
        </p:nvSpPr>
        <p:spPr>
          <a:xfrm flipH="1" flipV="1">
            <a:off x="5181480" y="4419360"/>
            <a:ext cx="24386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7543800" y="532620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тубу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 2 цистерне = ТРИЈ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2"/>
          <p:cNvSpPr/>
          <p:nvPr/>
        </p:nvSpPr>
        <p:spPr>
          <a:xfrm>
            <a:off x="7543800" y="5334120"/>
            <a:ext cx="990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3"/>
          <p:cNvSpPr/>
          <p:nvPr/>
        </p:nvSpPr>
        <p:spPr>
          <a:xfrm rot="5400000">
            <a:off x="5333760" y="4495680"/>
            <a:ext cx="304920" cy="761760"/>
          </a:xfrm>
          <a:custGeom>
            <a:avLst/>
            <a:gdLst>
              <a:gd name="textAreaLeft" fmla="*/ 0 w 304920"/>
              <a:gd name="textAreaRight" fmla="*/ 110160 w 3049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4"/>
          <p:cNvSpPr/>
          <p:nvPr/>
        </p:nvSpPr>
        <p:spPr>
          <a:xfrm flipH="1" flipV="1">
            <a:off x="5486040" y="5029200"/>
            <a:ext cx="19810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324000" y="0"/>
            <a:ext cx="830556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cc00"/>
                </a:solidFill>
                <a:latin typeface="Verdana"/>
              </a:rPr>
              <a:t>Кораци у повезивању ексцитације и контракције у скелетном мишић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Интрацелуларни [Ca</a:t>
            </a:r>
            <a:r>
              <a:rPr b="1" lang="sr-Latn-CS" sz="14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] 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се повећа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Ca</a:t>
            </a:r>
            <a:r>
              <a:rPr b="1" lang="sr-Latn-CS" sz="14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 се везује за тропонин C 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на танком (актинском) филаменту, проузрокујући конформациону промену у тропонину која помера тропомиозин ван његовог лежишта, откривају</a:t>
            </a:r>
            <a:r>
              <a:rPr b="0" lang="sr-CS" sz="1400" spc="-1" strike="noStrike">
                <a:solidFill>
                  <a:srgbClr val="000000"/>
                </a:solidFill>
                <a:latin typeface="Verdana"/>
              </a:rPr>
              <a:t>ћ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и активна места на актинским нитима за које се везују главице попречних мостова миозинских нити. 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Циклус попречних мостова 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започиње (види даљ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lastscan"/>
          <p:cNvPicPr/>
          <p:nvPr/>
        </p:nvPicPr>
        <p:blipFill>
          <a:blip r:embed="rId1"/>
          <a:stretch/>
        </p:blipFill>
        <p:spPr>
          <a:xfrm>
            <a:off x="609480" y="2819520"/>
            <a:ext cx="6782040" cy="387972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4"/>
          <p:cNvSpPr/>
          <p:nvPr/>
        </p:nvSpPr>
        <p:spPr>
          <a:xfrm>
            <a:off x="7620120" y="3733920"/>
            <a:ext cx="9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 туб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7546320" y="274320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арко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7607880" y="44560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Цистерне 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7"/>
          <p:cNvSpPr/>
          <p:nvPr/>
        </p:nvSpPr>
        <p:spPr>
          <a:xfrm flipH="1">
            <a:off x="6705720" y="2971800"/>
            <a:ext cx="8380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8"/>
          <p:cNvSpPr/>
          <p:nvPr/>
        </p:nvSpPr>
        <p:spPr>
          <a:xfrm flipH="1">
            <a:off x="5562720" y="3962520"/>
            <a:ext cx="2133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9"/>
          <p:cNvSpPr/>
          <p:nvPr/>
        </p:nvSpPr>
        <p:spPr>
          <a:xfrm flipH="1" flipV="1">
            <a:off x="5943240" y="4343040"/>
            <a:ext cx="1676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0"/>
          <p:cNvSpPr/>
          <p:nvPr/>
        </p:nvSpPr>
        <p:spPr>
          <a:xfrm flipH="1" flipV="1">
            <a:off x="5181480" y="4419360"/>
            <a:ext cx="24386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7543800" y="532620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тубу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 2 цистерне = ТРИЈ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7543800" y="5334120"/>
            <a:ext cx="990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3"/>
          <p:cNvSpPr/>
          <p:nvPr/>
        </p:nvSpPr>
        <p:spPr>
          <a:xfrm rot="5400000">
            <a:off x="5333760" y="4495680"/>
            <a:ext cx="304920" cy="761760"/>
          </a:xfrm>
          <a:custGeom>
            <a:avLst/>
            <a:gdLst>
              <a:gd name="textAreaLeft" fmla="*/ 0 w 304920"/>
              <a:gd name="textAreaRight" fmla="*/ 110160 w 3049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4"/>
          <p:cNvSpPr/>
          <p:nvPr/>
        </p:nvSpPr>
        <p:spPr>
          <a:xfrm flipH="1" flipV="1">
            <a:off x="5486040" y="5029200"/>
            <a:ext cx="19810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7" descr="7-1"/>
          <p:cNvPicPr/>
          <p:nvPr/>
        </p:nvPicPr>
        <p:blipFill>
          <a:blip r:embed="rId1"/>
          <a:stretch/>
        </p:blipFill>
        <p:spPr>
          <a:xfrm>
            <a:off x="0" y="1530360"/>
            <a:ext cx="5508720" cy="53276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1116000" y="836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уромускуларна спој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508720" y="1196640"/>
            <a:ext cx="36352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оторна завршна плоч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уромускуларна спојница између дебелог мијелинског нервног влакна и скелетног мишићног влак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. лонгитудинални прес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. спољашњи (површински) прес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. електронска микроскопија (схематски приказ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синаптички жлеб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(канал) – инвагинација мембране мишићног влак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синаптички простор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(пукотина) – простор између нервног и мишићног влакна (20-3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m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субнеуралне пукотин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– набори мембране мишићног влак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 синаптичком жле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7-6a"/>
          <p:cNvPicPr/>
          <p:nvPr/>
        </p:nvPicPr>
        <p:blipFill>
          <a:blip r:embed="rId1"/>
          <a:stretch/>
        </p:blipFill>
        <p:spPr>
          <a:xfrm>
            <a:off x="5364000" y="1773360"/>
            <a:ext cx="3780000" cy="393228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92d050"/>
                </a:solidFill>
                <a:uFillTx/>
                <a:latin typeface="Arial"/>
              </a:rPr>
              <a:t>Отклањање </a:t>
            </a:r>
            <a:r>
              <a:rPr b="1" lang="en-US" sz="1800" spc="-1" strike="noStrike" u="sng">
                <a:solidFill>
                  <a:srgbClr val="92d050"/>
                </a:solidFill>
                <a:uFillTx/>
                <a:latin typeface="Arial"/>
              </a:rPr>
              <a:t>C</a:t>
            </a:r>
            <a:r>
              <a:rPr b="1" lang="sr-Latn-CS" sz="1800" spc="-1" strike="noStrike" u="sng">
                <a:solidFill>
                  <a:srgbClr val="92d050"/>
                </a:solidFill>
                <a:uFillTx/>
                <a:latin typeface="Arial"/>
              </a:rPr>
              <a:t>а</a:t>
            </a:r>
            <a:r>
              <a:rPr b="1" lang="sr-Latn-CS" sz="1800" spc="-1" strike="noStrike" u="sng" baseline="30000">
                <a:solidFill>
                  <a:srgbClr val="92d050"/>
                </a:solidFill>
                <a:uFillTx/>
                <a:latin typeface="Arial"/>
                <a:ea typeface="Tahoma"/>
              </a:rPr>
              <a:t>2+</a:t>
            </a:r>
            <a:r>
              <a:rPr b="1" lang="sr-Latn-CS" sz="1800" spc="-1" strike="noStrike" u="sng">
                <a:solidFill>
                  <a:srgbClr val="92d050"/>
                </a:solidFill>
                <a:uFillTx/>
                <a:latin typeface="Arial"/>
              </a:rPr>
              <a:t> јона из течности миофибрил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52196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калцијумска пумп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А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за (налази се у зидовима саркоплазматског ретикулума) пумп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  <a:ea typeface="Tahoma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јоне натраг у саркоплазматски ретикулум и може их концентрисати око 10 00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калсеквестрин (протеин који се налази у саркоплазматском ретикулуму) везуј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  <a:ea typeface="Tahoma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јон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и омогућава да се у саркоплазматском ретикулуму ускладишти 40x виш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  <a:ea typeface="Tahoma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него што би било могуће у јонизованом обли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497800" cy="39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2d050"/>
                </a:solidFill>
                <a:latin typeface="Arial"/>
              </a:rPr>
              <a:t>ЦИКЛУС ПОПРЕЧНОГ МОСТА (CROS</a:t>
            </a: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S</a:t>
            </a:r>
            <a:r>
              <a:rPr b="1" lang="sr-Latn-CS" sz="2000" spc="-1" strike="noStrike">
                <a:solidFill>
                  <a:srgbClr val="92d050"/>
                </a:solidFill>
                <a:latin typeface="Arial"/>
              </a:rPr>
              <a:t> – B</a:t>
            </a: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R</a:t>
            </a:r>
            <a:r>
              <a:rPr b="1" lang="sr-Latn-CS" sz="2000" spc="-1" strike="noStrike">
                <a:solidFill>
                  <a:srgbClr val="92d050"/>
                </a:solidFill>
                <a:latin typeface="Arial"/>
              </a:rPr>
              <a:t>IDGE CY</a:t>
            </a: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C</a:t>
            </a:r>
            <a:r>
              <a:rPr b="1" lang="sr-Latn-CS" sz="2000" spc="-1" strike="noStrike">
                <a:solidFill>
                  <a:srgbClr val="92d050"/>
                </a:solidFill>
                <a:latin typeface="Arial"/>
              </a:rPr>
              <a:t>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P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није везан за миозин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, а миозин је тесно причвршћен за актин. У брзо контрахујућем мишићу, ова фаза је кратка. У отсуству А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,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ова фаза је стална (</a:t>
            </a:r>
            <a:r>
              <a:rPr b="1" i="1" lang="sr-Latn-CS" sz="1600" spc="-1" strike="noStrike">
                <a:solidFill>
                  <a:srgbClr val="000000"/>
                </a:solidFill>
                <a:latin typeface="Arial"/>
              </a:rPr>
              <a:t>rigo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sr-Latn-CS" sz="1600" spc="-1" strike="noStrike">
                <a:solidFill>
                  <a:srgbClr val="000000"/>
                </a:solidFill>
                <a:latin typeface="Arial"/>
              </a:rPr>
              <a:t> mо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sr-Latn-C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sr-Latn-C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А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се везује за миозин изазивајући конформациону промену у миозину која доводи до ослобађања миозина од акт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Миозинска главица се помера према плус крају актина. А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се хидролизира на 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P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и неоргански фосфат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). 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P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остаје причвршћен за миоз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Миозин се причвршћује за ново место на актину. Завеслај (клижење). 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P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се затим ослобађа, враћајући миозин до 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5832720" cy="357336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8"/>
          <p:cNvSpPr/>
          <p:nvPr/>
        </p:nvSpPr>
        <p:spPr>
          <a:xfrm>
            <a:off x="6234120" y="5013360"/>
            <a:ext cx="285228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Број попречних мост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који је у контакту 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актинским филамен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утиче на снаг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мишићне контракције!!!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468360" y="1266120"/>
            <a:ext cx="7772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Релаксација 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се јавља када се Ca</a:t>
            </a:r>
            <a:r>
              <a:rPr b="0" lang="sr-Latn-CS" sz="14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 поново акумулира у СР. Интрацелуларна</a:t>
            </a:r>
            <a:br>
              <a:rPr sz="1400"/>
            </a:b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Ca</a:t>
            </a:r>
            <a:r>
              <a:rPr b="0" lang="sr-Latn-CS" sz="14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 концентрација се смањује, Ca</a:t>
            </a:r>
            <a:r>
              <a:rPr b="0" lang="sr-Latn-CS" sz="14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 се ослобађа од тропонина C, и</a:t>
            </a:r>
            <a:br>
              <a:rPr sz="1400"/>
            </a:b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тропомиозин поново блокира миозин-везујућа места на актину. Све док је интрацелуларна концентрација Ca</a:t>
            </a:r>
            <a:r>
              <a:rPr b="0" lang="sr-Latn-CS" sz="14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 ниска, циклус попречних мостова не може да се де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lastscan"/>
          <p:cNvPicPr/>
          <p:nvPr/>
        </p:nvPicPr>
        <p:blipFill>
          <a:blip r:embed="rId1"/>
          <a:stretch/>
        </p:blipFill>
        <p:spPr>
          <a:xfrm>
            <a:off x="2771640" y="2637000"/>
            <a:ext cx="3803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нергетски аспекти мишићне контр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25200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е почетка контракције главе попречних мостова везују 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азна активност миозинске главе одмах цепа 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на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остају везани за главу) и истовремено се усправља у перпендикуларни положа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иозинска глава се везује за активно место и прави завеслај (енергија за завеслај је била похрањена у миозинској глави након цепања 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а) – принцип затегнуте опру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авијање миозинске главе на крају завесла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омогућава ослобађање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а упражњено место на миозинској глави се везује нови молекул 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везивање новог молекула 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а омогућава да се миозинска глава одвоји од активног ме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двајање миозинске главе од активног места омогућава да 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азна активност миозинске главе поново цепа 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на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 да се поново усправи у перпендикуларни положа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оцес се наставља све док актински филамент не дове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диск до крајева миозинског филамен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Што је већи рад који мишић врш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већа је и количина потребног 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P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-а – Фенов ефек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71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ЗВОРИ ЕНЕРГИЈЕ ЗА ЕНЕРГЕТСКУ ПОТРОШЊУ У МИШИЋИМА (ХРОНОЛОШКИ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1. ФОСФАГЕНИ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креатин фосф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. ЗАЛИХЕ УГЉЕНИХ ХИД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гликоген (гликогеноли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глукоза (гликоли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ирув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цетил-коензим А (Кребсов циклус)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оксидативна фосфорилациј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3. ЗАЛИХЕ МАСТИ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триглицериди (липоли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асне киселине (бета-оксидациј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цетил-коензим А (Кребсов циклу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оксидативна фосфорил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4. ЗАЛИХЕ ПРОТЕИНА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минокиселине (деаминациј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кетокиселине (Кребсов циклу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*неопходно присуство кисеоник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оксидативна фосфорил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osic.avi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62940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0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4681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тицај дужине саркомере на снагу мишићне контра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нага мишићне контракције је највећа при дужини саркомере од 2-2.2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 (највећа преклопљеност актинских и миозинских филамена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мањење дужине саркомере испод 2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 смањује снагу контракције (поготово испод 1.65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 – миозински филаменти додируј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дисков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већање дужине саркомере изнад 2.2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 смањује снагу контракције (смањује се преклопљеност актинских и миозинских филамена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7" descr="6-8"/>
          <p:cNvPicPr/>
          <p:nvPr/>
        </p:nvPicPr>
        <p:blipFill>
          <a:blip r:embed="rId1"/>
          <a:stretch/>
        </p:blipFill>
        <p:spPr>
          <a:xfrm>
            <a:off x="5041800" y="1484280"/>
            <a:ext cx="410220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5694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2d050"/>
                </a:solidFill>
                <a:latin typeface="Arial"/>
              </a:rPr>
              <a:t>УТИЦАЈ ДУЖИНЕ МИШИЋА НА </a:t>
            </a:r>
            <a:r>
              <a:rPr b="1" lang="sr-Latn-CS" sz="1800" spc="-1" strike="noStrike" u="sng">
                <a:solidFill>
                  <a:srgbClr val="92d050"/>
                </a:solidFill>
                <a:uFillTx/>
                <a:latin typeface="Arial"/>
              </a:rPr>
              <a:t>СНАГУ</a:t>
            </a:r>
            <a:r>
              <a:rPr b="1" lang="sr-Latn-CS" sz="1800" spc="-1" strike="noStrike">
                <a:solidFill>
                  <a:srgbClr val="92d050"/>
                </a:solidFill>
                <a:latin typeface="Arial"/>
              </a:rPr>
              <a:t> МИШИЋНЕ КОНТРА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нага мишићне контракције је највећа при нормалној мировној дужини мишића (дужина саркомере од 2-2.2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 -највећа преклопљеност актинских и миозинских филамена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мањење дужине мишића испод нормалне мировне дужине смањује снагу контракције (смањење дужина  саркоме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овећање дужине мишића 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д нормалне мировне дужине, такође, смањује снагу контракције (смањује се преклопљеност актинских и миозинских филамената) и повећава мировни нап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6-9"/>
          <p:cNvPicPr/>
          <p:nvPr/>
        </p:nvPicPr>
        <p:blipFill>
          <a:blip r:embed="rId1"/>
          <a:stretch/>
        </p:blipFill>
        <p:spPr>
          <a:xfrm>
            <a:off x="2556000" y="2970360"/>
            <a:ext cx="41986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826560" y="1483920"/>
            <a:ext cx="7129800" cy="414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Однос брзине контракције и оптерећења миши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највећа брзина контракције је када се мишић контрахује без оптерећ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овећање оптерећења мишића смањује брзину контракције (при максималном оптерећењу брзина контракције је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9" descr="6-10"/>
          <p:cNvPicPr/>
          <p:nvPr/>
        </p:nvPicPr>
        <p:blipFill>
          <a:blip r:embed="rId1"/>
          <a:stretch/>
        </p:blipFill>
        <p:spPr>
          <a:xfrm>
            <a:off x="2627280" y="3645000"/>
            <a:ext cx="3995640" cy="266040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5"/>
          <p:cNvSpPr/>
          <p:nvPr/>
        </p:nvSpPr>
        <p:spPr>
          <a:xfrm>
            <a:off x="3211560" y="1125360"/>
            <a:ext cx="26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cc00"/>
                </a:solidFill>
                <a:latin typeface="Verdana"/>
              </a:rPr>
              <a:t> </a:t>
            </a:r>
            <a:r>
              <a:rPr b="1" lang="sr-Latn-CS" sz="1800" spc="-1" strike="noStrike">
                <a:solidFill>
                  <a:srgbClr val="99cc00"/>
                </a:solidFill>
                <a:latin typeface="Verdana"/>
              </a:rPr>
              <a:t>Однос сила-брзина</a:t>
            </a:r>
            <a:r>
              <a:rPr b="1" lang="sr-Latn-CS" sz="1600" spc="-1" strike="noStrike">
                <a:solidFill>
                  <a:srgbClr val="99cc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7-2"/>
          <p:cNvPicPr/>
          <p:nvPr/>
        </p:nvPicPr>
        <p:blipFill>
          <a:blip r:embed="rId1"/>
          <a:stretch/>
        </p:blipFill>
        <p:spPr>
          <a:xfrm>
            <a:off x="4859280" y="2276640"/>
            <a:ext cx="4284720" cy="39938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8172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варање и ослобађање ацетилхолина из синаптичких везику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485928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лџијев апарат моторних неурона ствара везикуле (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) које се струјањем аксоплазме спуштају из тела неурона до неуромишићне спојнице (сакупи се око 300 000 везику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цетилхолин се синтетише у цитосолу неурона и транспортује се кроз мембрану у унутрашњост везикула где се складишти у високим концентрацијама (10 000 молекула по једној везикул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циони потенцијал стиже до нервног завршетка и отвара многобројне волтаж-зависн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  <a:ea typeface="Tahoma"/>
              </a:rPr>
              <a:t>2+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канале (густа те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94920" y="1052280"/>
            <a:ext cx="828036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истеми за регистровање мишићних контрак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Изотоничка контракциј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Изометричка контрак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мења се дужина мишић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мења се напон миши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напон остаје непромење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дужина остаје непромењ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6-11"/>
          <p:cNvPicPr/>
          <p:nvPr/>
        </p:nvPicPr>
        <p:blipFill>
          <a:blip r:embed="rId1"/>
          <a:stretch/>
        </p:blipFill>
        <p:spPr>
          <a:xfrm>
            <a:off x="1258920" y="2708280"/>
            <a:ext cx="69134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4608720" cy="65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Моторна једини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деф.)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ва мишићна влакна инервирана појединачним моторним нервним влакн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мали мишић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реагују брзо и прецизно) имају мали број мишићних влакана у моторној једин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велики мишић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реагују споро и мање прецизно) имају велики број мишићних влакана у моторној једин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Сумација мишићних контрак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деф.) – придруживање појединачних контракција у циљу повећања интензитета контрак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осторна сум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временска сум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8" descr="6-12"/>
          <p:cNvPicPr/>
          <p:nvPr/>
        </p:nvPicPr>
        <p:blipFill>
          <a:blip r:embed="rId1"/>
          <a:stretch/>
        </p:blipFill>
        <p:spPr>
          <a:xfrm>
            <a:off x="4859280" y="220680"/>
            <a:ext cx="4106880" cy="34844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1" descr="6-13"/>
          <p:cNvPicPr/>
          <p:nvPr/>
        </p:nvPicPr>
        <p:blipFill>
          <a:blip r:embed="rId2"/>
          <a:stretch/>
        </p:blipFill>
        <p:spPr>
          <a:xfrm>
            <a:off x="4859280" y="3686040"/>
            <a:ext cx="41054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4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4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4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4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7920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Механизам тета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ациј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ојединачан акциони потенцијал проузрокује ослобађање стандардне количин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из СР и продукује један трзај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еђутим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ко се мишић поновљено стимулира све већом фреквенцијом (повећава се фреквенција контракција) виш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се ослобађа из СР и јавља се кумулативно повећање у интрацелуларном [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], продужавајући време трајања циклуса попречног моста. Мишић се не релаксир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тета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ациј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11" descr="6-13"/>
          <p:cNvPicPr/>
          <p:nvPr/>
        </p:nvPicPr>
        <p:blipFill>
          <a:blip r:embed="rId1"/>
          <a:stretch/>
        </p:blipFill>
        <p:spPr>
          <a:xfrm>
            <a:off x="4572000" y="3759120"/>
            <a:ext cx="431964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4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4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4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4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ласификација мишићних влак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ма морфолошким, функционалним и метаболичким критеријумима се мишићна влакна деле 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ора (тип 1 или црвена) мишићна влакн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рза (тип 2 или бела) мишићна влак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рза влак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мају двоструко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ећи дијамета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двоструко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ећу максималну сна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контрак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2-3 пут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ећа активност ензима за брзо обезбеђивање енергије из фосфагеног система и система гликоген-млечна кисел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од спорих влака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ра влак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у боље прокрвљена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ећи број капила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и имају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ећу издржљив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већи број митохондрија, органеле у којима се одвија аеробни метаболизам, и већа количина миоглобина, једињење које везује кисеоник) од брзих влак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роцентуални однос броја спорих и брзих мишићних влакана је генетски дефинисан и није могуће да се промени без обзира на врсту тренинга која се спрово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611280" y="1125360"/>
            <a:ext cx="8076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ОДНОС БРЗИХ И СПОРИХ МИШИЋНИХ ВЛАКА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У КВАДРИЦЕПСУ РАЗЛИЧИТИХ СПОРТИ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447920" y="1828800"/>
          <a:ext cx="6095880" cy="50068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90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рза влак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ра влакна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ратонц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ив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сечан мушкарa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изачи тег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ринте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как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1974960" y="1828800"/>
            <a:ext cx="515772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Физиолошка анатомија глатког миши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54356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Глатки мишић се састоји од мишићних влакана дијаметара 1-5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 (30x мањи од скелетних мишића) и дужине 20-500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 (скелетни могу бити дуги и до 1 m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Типови глатких мишић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а. вишејединични глатки мишић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(пр. цилијарни мишић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састоји се одвојених мишићних влак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свако влакно функционише независ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нервна (најчешће) контрола – обично појединачна инерва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ретка спонтана актив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б. једнојединични (синцицијални) глатки мишић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(пр. глатки мишићи зидова унутрашњих органа – висцерални мишић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састоји се великог броја спојених мишићних влак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функционални синцицију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влакна су спојена порозним везама (gap junct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нервна (најчешће) контро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типична спонтана актив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6" descr="8-1"/>
          <p:cNvPicPr/>
          <p:nvPr/>
        </p:nvPicPr>
        <p:blipFill>
          <a:blip r:embed="rId1"/>
          <a:stretch/>
        </p:blipFill>
        <p:spPr>
          <a:xfrm>
            <a:off x="5292720" y="2852640"/>
            <a:ext cx="3851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5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Функционална анатомија глатког миши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5689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Глатки мишић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садржи контрактилне филамент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акти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миози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као и скелетни миши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Распоред контрактилних филамената 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није правила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нема попречне испруганости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актински филаменти су у </a:t>
            </a:r>
            <a:r>
              <a:rPr b="0" i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сноповим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груписани на различитим местима у ћелиј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на крајевима актинских филамената се налазе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густа тел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одговарај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дисковима код скелетних мишић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густа тела су често груписана уз ћелијску мембрану и протеинским мостовима спојена са густим телима другог влак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нутар снопова актинских филамената се налазе </a:t>
            </a:r>
            <a:r>
              <a:rPr b="0" i="1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појединачни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миозински фила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однос броја актинских и миозинских филамената 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5-10 : 1 (2 : 1 код скелетних мишић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иозински филаменти имају </a:t>
            </a: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sidepola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попречне мостове (са једне стране вуку актинске филаменте на једну, а са друге стране на другу страну) – омогућавају скраћење дужине влакна у контракцији и до 80% (30% код скелетних мишић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7" descr="8-2"/>
          <p:cNvPicPr/>
          <p:nvPr/>
        </p:nvPicPr>
        <p:blipFill>
          <a:blip r:embed="rId1"/>
          <a:stretch/>
        </p:blipFill>
        <p:spPr>
          <a:xfrm>
            <a:off x="5867280" y="1197000"/>
            <a:ext cx="32767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мбрански и акциони потенцијали глатког миши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464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Електрична активност глатке мускулатур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. мировни мембрански потенциј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б. спори тала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шиљати потенциј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Мировни мембрански потенциј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износи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50-60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V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око 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V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мање него у скелетном мишић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већа подражљиво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фактори који деполарузују мембран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истезање миши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стимулација нерв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стимулација хормон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фактори који хиперполарузују мембран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стимулација нерв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стимулација хормон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7" descr="Slika 62-3 pon"/>
          <p:cNvPicPr/>
          <p:nvPr/>
        </p:nvPicPr>
        <p:blipFill>
          <a:blip r:embed="rId1"/>
          <a:stretch/>
        </p:blipFill>
        <p:spPr>
          <a:xfrm>
            <a:off x="5219640" y="1197000"/>
            <a:ext cx="3924360" cy="27604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8-3"/>
          <p:cNvPicPr/>
          <p:nvPr/>
        </p:nvPicPr>
        <p:blipFill>
          <a:blip r:embed="rId2"/>
          <a:stretch/>
        </p:blipFill>
        <p:spPr>
          <a:xfrm>
            <a:off x="5219640" y="4005360"/>
            <a:ext cx="39243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3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5400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Спори тала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поре (таласасте) промене мировног потенциј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осцилације активн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/K пумпе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интензитет – 5-1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различита фреквенца у ГИТ-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желудац (тело) – 3/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дуоденум – 12/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илеум (терминални) – 8-9/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контролишу појаву шиљатих потенциј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Шиљати потенциј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рави акциони потенциј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настају када мировни потенцијал пређе -4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овећање мировног потенцијала (спори таласи) повећава 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фреквенц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шиљатих потенциј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трају 10-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10-40x дуже од дебелих нервних влака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трансфер јона кроз 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споре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а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а кана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директна повезаност ексцитације и контра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Slika 62-3 pon"/>
          <p:cNvPicPr/>
          <p:nvPr/>
        </p:nvPicPr>
        <p:blipFill>
          <a:blip r:embed="rId1"/>
          <a:stretch/>
        </p:blipFill>
        <p:spPr>
          <a:xfrm>
            <a:off x="5292720" y="404640"/>
            <a:ext cx="36050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lastscan"/>
          <p:cNvPicPr/>
          <p:nvPr/>
        </p:nvPicPr>
        <p:blipFill>
          <a:blip r:embed="rId1"/>
          <a:stretch/>
        </p:blipFill>
        <p:spPr>
          <a:xfrm>
            <a:off x="5003640" y="765000"/>
            <a:ext cx="4040280" cy="58644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"/>
          <p:cNvSpPr/>
          <p:nvPr/>
        </p:nvSpPr>
        <p:spPr>
          <a:xfrm>
            <a:off x="228600" y="1371600"/>
            <a:ext cx="457200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Неуротрансмит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ацетилхолин -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ослобођ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из пресинаптичког (аксонског) завршетка,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зује з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никотински рецепто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остсинаптич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ј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мембр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сарколеми)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То доводи до конформационе промене која отвара канал, дозвољавајући улазак натријума у мишићно влакно и ексцитацију контракције. Запазите негативни набој унутар канала који спречава улазак негативних јона, као што су хлоридни јо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 – затворен ка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 – отворен ка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1590840" y="1828800"/>
            <a:ext cx="641340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50716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ређење механизма контракције глатког и скелетног мишића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609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Спори циклус миозинских попречних мостова глатког миш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брзина циклу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миозинских попречних мостова глатких мишића је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мања него код скелетних мишић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1/10 до 1/300 брзине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фракција времена током кога попречни мостови остају везани за актинске филаменте је већа код глатких мишић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главни фактор који одређује силу мишићне контрак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3-4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код скелетних и 4-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код глатких мишића и поред мањег броја миозинских филамената по маси мишић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вероватни разлог је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мања АТ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-азна активност миозинских глави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глатких миш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Спорост појаве контракције и релаксације глатког миш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онтракција глатког мишића почиње 50-1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после ексцитације, достиже пун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л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онтракци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током 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а затим контрактилна сила опада током 1-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укупно време контракције 1-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30x дуже него код скелетних мишић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вероватни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разлог је мања АТ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-азна активност миозинских глави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глатких мишића (спорији циклус миозинских попречних мостова глатког мишић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одатни разлог је време потребно да се иницира контракција (код глатких мишића јон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 контолишу и ексцитацију и контракциј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ређење механизма контракције глатког и скелетног мишић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Механиза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закључавањ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за продужено трајање контракције глатког миш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ада постигне пуну контракцију глатки мишић може одржавати пуну силу контракције уз минималну стимулацију и минималну потрошњу енергије (1/300 у односу на скелетни миши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значај за тоничке контра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вероватни разлог је мања 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азна активност миозинских главица глатких мишића услед смањења активности ензима који регулишу активност главица глатких мишића (миозин-киназа и миозин-фосфата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Стрес-релаксација глатког миш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државање (приближно) константних вредности силе (притиска) упркос променама дужине мишића – пример беш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вероватни разлог је мања 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азна активност миозинских главица глатких мишића услед смањења активности ензима који регулишу активност главица глатких мишића (миозин-киназа и миозин-фосфата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одатни разлог је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"</a:t>
            </a:r>
            <a:r>
              <a:rPr b="0" i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прекопчавањ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"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миозинских главица глатких миш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егулација контракције глатког мишића калцијумовим јон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5867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Калцијум који иницира контракцију глатког мишића може бити пореклом из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екстрацелуларне течност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главни из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код глатког мишића) где постоји у великој концетрацији 10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-3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у односу на 10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унутар ћелије) – у ћелију улази дифузијом или кроз хормон-зависне, односно, волтаж-зависне калцијумске кана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саркоплазматског ретикулум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једини извор код скелетног мишића), али је исти слабо развијен код глатких мишић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који је ушао у ћелију може да ослободи додатн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 из СР прек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-зависни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канал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Хормони и неуротрансмитери, такође, могу директно да ослобо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из СР преко ино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итол 1,4,5-трифосфат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3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)-зависни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н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4" descr="8-5"/>
          <p:cNvPicPr/>
          <p:nvPr/>
        </p:nvPicPr>
        <p:blipFill>
          <a:blip r:embed="rId1"/>
          <a:stretch/>
        </p:blipFill>
        <p:spPr>
          <a:xfrm>
            <a:off x="5867280" y="1557360"/>
            <a:ext cx="3168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7" dur="3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1218240"/>
            <a:ext cx="9144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cc00"/>
                </a:solidFill>
                <a:latin typeface="Verdana"/>
              </a:rPr>
              <a:t>Кораци у повезивању механизма ексцитација-контракциј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cc00"/>
                </a:solidFill>
                <a:latin typeface="Verdana"/>
              </a:rPr>
              <a:t>у глатком мишић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Механизам повезивања екцитације и контракције је различит од оног који се јавља у скеленом мишић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Verdana"/>
              </a:rPr>
              <a:t>Деполаризација ћелијске мембране отвара волтаж-зависне Ca</a:t>
            </a:r>
            <a:r>
              <a:rPr b="1" lang="sr-Latn-CS" sz="16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Verdana"/>
              </a:rPr>
              <a:t>канале 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и 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 улази у ћелију смањујући његов еле</a:t>
            </a:r>
            <a:r>
              <a:rPr b="0" lang="sr-CS" sz="16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трохемијски градијент,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повећавајући унутарћелијски [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0" y="1720080"/>
            <a:ext cx="9144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cc00"/>
                </a:solidFill>
                <a:latin typeface="Verdana"/>
              </a:rPr>
              <a:t>Кораци у повезивању механизма ексцитација-контракциј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cc00"/>
                </a:solidFill>
                <a:latin typeface="Verdana"/>
              </a:rPr>
              <a:t>у глатком мишић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 који је ушао у ћелију може да ослободи додатни 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из СР преко 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-зависних 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 канала. Хормони и неуротрансмитери такође мог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директно да ослободе 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 из СР преко ино</a:t>
            </a:r>
            <a:r>
              <a:rPr b="0" lang="sr-CS" sz="1600" spc="-1" strike="noStrike">
                <a:solidFill>
                  <a:srgbClr val="000000"/>
                </a:solidFill>
                <a:latin typeface="Verdana"/>
              </a:rPr>
              <a:t>з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итол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1,4,5-трифосфат </a:t>
            </a:r>
            <a:r>
              <a:rPr b="1" lang="sr-Latn-CS" sz="1600" spc="-1" strike="noStrike">
                <a:solidFill>
                  <a:srgbClr val="000000"/>
                </a:solidFill>
                <a:latin typeface="Verdana"/>
              </a:rPr>
              <a:t>(IP</a:t>
            </a:r>
            <a:r>
              <a:rPr b="1" lang="sr-Latn-CS" sz="1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sr-Latn-CS" sz="1600" spc="-1" strike="noStrike">
                <a:solidFill>
                  <a:srgbClr val="000000"/>
                </a:solidFill>
                <a:latin typeface="Verdana"/>
              </a:rPr>
              <a:t>)-зависних Ca</a:t>
            </a:r>
            <a:r>
              <a:rPr b="1" lang="sr-Latn-CS" sz="16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1" lang="sr-Latn-CS" sz="1600" spc="-1" strike="noStrike">
                <a:solidFill>
                  <a:srgbClr val="000000"/>
                </a:solidFill>
                <a:latin typeface="Verdana"/>
              </a:rPr>
              <a:t> кан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Verdana"/>
              </a:rPr>
              <a:t>Концентрација Ca</a:t>
            </a:r>
            <a:r>
              <a:rPr b="1" lang="sr-Latn-CS" sz="1600" spc="-1" strike="noStrike" baseline="30000">
                <a:solidFill>
                  <a:srgbClr val="000000"/>
                </a:solidFill>
                <a:latin typeface="Verdana"/>
              </a:rPr>
              <a:t>2+ </a:t>
            </a:r>
            <a:r>
              <a:rPr b="1" lang="sr-Latn-CS" sz="1600" spc="-1" strike="noStrike">
                <a:solidFill>
                  <a:srgbClr val="000000"/>
                </a:solidFill>
                <a:latin typeface="Verdana"/>
              </a:rPr>
              <a:t>у ћелији 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1904760"/>
            <a:ext cx="9144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cc00"/>
                </a:solidFill>
                <a:latin typeface="Verdana"/>
              </a:rPr>
              <a:t>Кораци у повезивању механизма ексцитација-контракциј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cc00"/>
                </a:solidFill>
                <a:latin typeface="Verdana"/>
              </a:rPr>
              <a:t>у глатком мишић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Verdana"/>
                <a:ea typeface="Verdana"/>
              </a:rPr>
              <a:t>-Не постоји </a:t>
            </a:r>
            <a:r>
              <a:rPr b="1" lang="sr-Latn-CS" sz="1600" spc="-1" strike="noStrike">
                <a:solidFill>
                  <a:srgbClr val="000000"/>
                </a:solidFill>
                <a:latin typeface="Verdana"/>
                <a:ea typeface="Verdana"/>
              </a:rPr>
              <a:t>тропонин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 се везује за </a:t>
            </a:r>
            <a:r>
              <a:rPr b="1" lang="sr-Latn-CS" sz="1600" spc="-1" strike="noStrike">
                <a:solidFill>
                  <a:srgbClr val="000000"/>
                </a:solidFill>
                <a:latin typeface="Verdana"/>
              </a:rPr>
              <a:t>калмодулин. 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-калмодулин комплекс се везује и активи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Verdana"/>
              </a:rPr>
              <a:t>миозин киназу лаког ланца. 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Када је активирана, миозин киназа лаког ланца </a:t>
            </a:r>
            <a:r>
              <a:rPr b="1" lang="sr-Latn-CS" sz="1600" spc="-1" strike="noStrike">
                <a:solidFill>
                  <a:srgbClr val="000000"/>
                </a:solidFill>
                <a:latin typeface="Verdana"/>
              </a:rPr>
              <a:t>фосфорилише миоз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и на тај начин омогућава да се веже за актин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Verdana"/>
              </a:rPr>
              <a:t>Дефосфорилизација миозина доводи до релаксације. Ову реакцију катализује ензим миозин фосфатаз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Object 3"/>
          <p:cNvGraphicFramePr/>
          <p:nvPr/>
        </p:nvGraphicFramePr>
        <p:xfrm>
          <a:off x="179280" y="0"/>
          <a:ext cx="8894880" cy="666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0"/>
                    <a:ext cx="889488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38080" y="4572000"/>
            <a:ext cx="7620120" cy="22860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3"/>
          <p:cNvSpPr/>
          <p:nvPr/>
        </p:nvSpPr>
        <p:spPr>
          <a:xfrm>
            <a:off x="304920" y="1818360"/>
            <a:ext cx="8839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Акциони потенцијали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се преносе низ мотонеурон. Деполаризација пресинаптичког завршетка (терминала) 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отвара Ca</a:t>
            </a:r>
            <a:r>
              <a:rPr b="1" lang="sr-Latn-CS" sz="16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 кана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Када се повећа пермеабилност за 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јони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“јурну” у пресинаптички завршета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Преузимање Ca</a:t>
            </a:r>
            <a:r>
              <a:rPr b="1" lang="sr-Latn-CS" sz="16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 проузрокује ослобађање ACh у синаптичку пукоти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-Синаптичке везикуле се стапају са плазма мембраном и празне свој садржај у пукотину егзоцитоз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433520" y="59245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434960" y="5924520"/>
            <a:ext cx="177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. Action potential in ner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0" y="41148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8800920" y="15238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8853840" y="3124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1447920" y="5943600"/>
            <a:ext cx="1522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8675640" y="530064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38080" y="4419720"/>
            <a:ext cx="7620120" cy="2438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"/>
          <p:cNvSpPr/>
          <p:nvPr/>
        </p:nvSpPr>
        <p:spPr>
          <a:xfrm>
            <a:off x="0" y="1585080"/>
            <a:ext cx="8839080" cy="27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ACh дифундује ка постсинаптичкој мембрани (завршн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мишићна плоча)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где се ACh везује за никотинске рецепторе (ACh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-Никотински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ACh рецептор је такође 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sr-Latn-CS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 и K</a:t>
            </a:r>
            <a:r>
              <a:rPr b="1" lang="sr-Latn-CS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 јонски кана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Везивање ACh за субјединице рецептора доводи до конформационе промене која отвара централни део канала и повећава проводљивост за N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и K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. Ово су примери 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лиганд-зaвисних кaнaл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433520" y="59245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434960" y="5924520"/>
            <a:ext cx="177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. Action potential in ner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8617320" y="2514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8"/>
          <p:cNvSpPr/>
          <p:nvPr/>
        </p:nvSpPr>
        <p:spPr>
          <a:xfrm>
            <a:off x="1447920" y="5943600"/>
            <a:ext cx="1522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8675640" y="5300640"/>
            <a:ext cx="1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0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38080" y="4800600"/>
            <a:ext cx="7620120" cy="20574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0" y="1491120"/>
            <a:ext cx="883908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Пошто је отворен од стране ACh,  кроз рецепторски канал пролазе и Na</a:t>
            </a:r>
            <a:r>
              <a:rPr b="0" lang="sr-Latn-CS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и K</a:t>
            </a:r>
            <a:r>
              <a:rPr b="0" lang="sr-Latn-CS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јони, постсинаптички мембрански потенцијал је деполаризован до вредности која износи половину између Na</a:t>
            </a:r>
            <a:r>
              <a:rPr b="0" lang="sr-Latn-CS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sr-Latn-CS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еквилибријумских потенцијал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(приближно 0 mV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-Садржај синаптичке везикуле (један квантум) продукује 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минијатурни потенцијал завршне плоче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(МПП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-МПП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се сабир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ју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и настаје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ексцитацијски постсинаптицки потенцијал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завршне плоч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ЕПП. 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ЕПП није акциони потенцијал,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већ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просто деполаризација специјализоване мишићне завршне плоче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о је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ЕПП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довољно велики узрокује настана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2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КЦИОНОГ ПОТЕНЦИЈАЛА НА САРКОЛЕМ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433520" y="59245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434960" y="5924520"/>
            <a:ext cx="177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. Action potential in ner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0" y="41148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8800200" y="281952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9"/>
          <p:cNvSpPr/>
          <p:nvPr/>
        </p:nvSpPr>
        <p:spPr>
          <a:xfrm>
            <a:off x="1447920" y="5943600"/>
            <a:ext cx="1522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8877960" y="56340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7-4"/>
          <p:cNvPicPr/>
          <p:nvPr/>
        </p:nvPicPr>
        <p:blipFill>
          <a:blip r:embed="rId1"/>
          <a:stretch/>
        </p:blipFill>
        <p:spPr>
          <a:xfrm>
            <a:off x="5292720" y="1989000"/>
            <a:ext cx="3672000" cy="41752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тенцијал завршне плоче и ексцитација скелетног мишићног влак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5292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лазак ј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 у мишићно влакно доводи до пораста мембранског потенцијала – потенцијал завршне пло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ањи улаза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 генерише промену потанцијала мању од +20 до +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V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која не узрокује накнадне појаве (остаје на нивоу локалног потенцијала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ексцитацијски постсинаптички потенцијал (постоји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већи улаза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 генерише промену по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нцијала већу од +20 до +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V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која узрокује настанак акционог потенциј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korisnik</cp:lastModifiedBy>
  <dcterms:modified xsi:type="dcterms:W3CDTF">2014-10-01T14:55:42Z</dcterms:modified>
  <cp:revision>49</cp:revision>
  <dc:subject/>
  <dc:title>Slide 1</dc:title>
</cp:coreProperties>
</file>