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11.png" ContentType="image/png"/>
  <Override PartName="/ppt/media/image27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8.wmf" ContentType="image/x-wmf"/>
  <Override PartName="/ppt/media/image13.png" ContentType="image/png"/>
  <Override PartName="/ppt/media/image33.png" ContentType="image/png"/>
  <Override PartName="/ppt/media/image14.jpeg" ContentType="image/jpeg"/>
  <Override PartName="/ppt/media/image37.png" ContentType="image/png"/>
  <Override PartName="/ppt/media/image9.wmf" ContentType="image/x-wmf"/>
  <Override PartName="/ppt/media/image5.jpeg" ContentType="image/jpeg"/>
  <Override PartName="/ppt/media/image26.jpeg" ContentType="image/jpeg"/>
  <Override PartName="/ppt/media/image17.png" ContentType="image/png"/>
  <Override PartName="/ppt/media/image20.wmf" ContentType="image/x-wmf"/>
  <Override PartName="/ppt/media/image12.jpeg" ContentType="image/jpeg"/>
  <Override PartName="/ppt/media/image34.png" ContentType="image/png"/>
  <Override PartName="/ppt/media/image4.png" ContentType="image/png"/>
  <Override PartName="/ppt/media/image3.wmf" ContentType="image/x-wmf"/>
  <Override PartName="/ppt/media/image36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png" ContentType="image/pn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C71-4D51-4C30-821A-5DC50A2D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729-AC61-4C0A-B49D-D20CDAF3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84B-27F8-4ECF-84E0-2C0133E1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4BFD-6FFE-4870-8E34-A58F97B5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8CF-1747-4D4C-8B0E-9506DDA1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24F-B18C-4219-95FE-4CA2CF18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1B7-4D2C-4F71-BFE1-F2763DAF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366-AA61-4B46-97FF-A70800FE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AEFD-A587-4A34-A170-1FC9286C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40F-043C-4DFF-A4A4-D9861284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A0B-3E6F-474B-AA42-E039CD84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13D-E8C8-4D56-A70E-861DEC7C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9205-A29E-4E3A-AA8D-4DABC770F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ултет 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дицинск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х нау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у Крагујевцу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Е СТРУКОВНЕ СТУДИЈ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изи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98900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РЕГИСТРОВАЊЕ И АНАЛИЗА ЕКГ – 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E:\Nena\Doktorske\MFgrb.gif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heartheavy.com/wp-content/uploads/EM00027_ma.jpg"/>
          <p:cNvPicPr/>
          <p:nvPr/>
        </p:nvPicPr>
        <p:blipFill>
          <a:blip r:embed="rId2"/>
          <a:stretch/>
        </p:blipFill>
        <p:spPr>
          <a:xfrm>
            <a:off x="2484360" y="3429000"/>
            <a:ext cx="3889440" cy="2492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5364000" y="595008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тедра за Физиолог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ЖБА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411280" y="299736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380880" y="6562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дставља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ировни мембрански потенцијал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 је период у коме је улазак и излазак позитивних јона 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днак 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мембрански потенцијал се приближав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равнотежном потенцијалу з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30"/>
          <p:cNvSpPr/>
          <p:nvPr/>
        </p:nvSpPr>
        <p:spPr>
          <a:xfrm>
            <a:off x="6084720" y="558972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5977080" cy="5510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2356560" y="333360"/>
            <a:ext cx="49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проводн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систем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 срц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26"/>
          <p:cNvSpPr/>
          <p:nvPr/>
        </p:nvSpPr>
        <p:spPr>
          <a:xfrm>
            <a:off x="250920" y="200520"/>
            <a:ext cx="87138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иноатријалн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(SA)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чвор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 нормално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едводник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(pacemaker)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рчаног ритм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стабилан мировни потенцијал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 фаз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4 –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онтана деполаризациј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Hiss-Purkinje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 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атентни пејсмејкер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мог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м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S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ор ако 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примир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27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3581280" cy="1877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29"/>
          <p:cNvSpPr/>
          <p:nvPr/>
        </p:nvSpPr>
        <p:spPr>
          <a:xfrm>
            <a:off x="179280" y="5221800"/>
            <a:ext cx="89647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рзина фаз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4 (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понтане деполаризаци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е највећа 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чвору (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фаз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јкраће трај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), затим у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чвору,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ајспорија је 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Хис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уркињ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истем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0000"/>
                </a:solidFill>
                <a:latin typeface="Arial"/>
              </a:rPr>
              <a:t>SA 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чвор</a:t>
            </a:r>
            <a:r>
              <a:rPr b="1" lang="sr-Latn-CS" sz="2200" spc="-1" strike="noStrike">
                <a:solidFill>
                  <a:srgbClr val="ff0000"/>
                </a:solidFill>
                <a:latin typeface="Arial"/>
              </a:rPr>
              <a:t> &gt; AV 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чвор</a:t>
            </a:r>
            <a:r>
              <a:rPr b="1" lang="sr-Latn-CS" sz="22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Хис</a:t>
            </a:r>
            <a:r>
              <a:rPr b="1" lang="sr-Latn-CS" sz="2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sr-CS" sz="2200" spc="-1" strike="noStrike">
                <a:solidFill>
                  <a:srgbClr val="ff0000"/>
                </a:solidFill>
                <a:latin typeface="Arial"/>
              </a:rPr>
              <a:t>Пуркињ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то је 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A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чвор предводник срчаног рит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8256240" y="18360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26"/>
          <p:cNvSpPr/>
          <p:nvPr/>
        </p:nvSpPr>
        <p:spPr>
          <a:xfrm>
            <a:off x="324000" y="475920"/>
            <a:ext cx="849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пор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 спонтана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еполаризациј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Одговорна је з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ејсмејкерску активност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SA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чвор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(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аутоматизам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, као и за пејсмејкерску активност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AV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чвор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Хис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уркињ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систем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стаје услед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овећане проводљивости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з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N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о доводи 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уласк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N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у ћели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27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3581280" cy="1877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184600" y="20808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27" descr=""/>
          <p:cNvPicPr/>
          <p:nvPr/>
        </p:nvPicPr>
        <p:blipFill>
          <a:blip r:embed="rId1"/>
          <a:stretch/>
        </p:blipFill>
        <p:spPr>
          <a:xfrm>
            <a:off x="2771640" y="4292640"/>
            <a:ext cx="3581640" cy="1878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050"/>
          <p:cNvSpPr/>
          <p:nvPr/>
        </p:nvSpPr>
        <p:spPr>
          <a:xfrm>
            <a:off x="250920" y="411120"/>
            <a:ext cx="85690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 нагли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кок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спон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ционог потенција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овећане проводљивости з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C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 доводи до повећа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уласка позитивних јон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C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у ћели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 управ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тенцијал мембране према равнотежном потенцијалу 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онска база за фаз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SA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вору је различит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 оне у комора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ткомора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 Пуркиње-ов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лакнима ср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де је она резултат улас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27" descr=""/>
          <p:cNvPicPr/>
          <p:nvPr/>
        </p:nvPicPr>
        <p:blipFill>
          <a:blip r:embed="rId1"/>
          <a:stretch/>
        </p:blipFill>
        <p:spPr>
          <a:xfrm>
            <a:off x="2771640" y="4005360"/>
            <a:ext cx="3581640" cy="1877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026"/>
          <p:cNvSpPr/>
          <p:nvPr/>
        </p:nvSpPr>
        <p:spPr>
          <a:xfrm>
            <a:off x="324000" y="562680"/>
            <a:ext cx="8640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аза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поларизациј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стаје као последица повећане проводљивости 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зласка јон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калијум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(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 доводи до реполаризације мембранског потенција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Фазе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1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нису присутн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у акционом потенцијал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A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во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026"/>
          <p:cNvSpPr/>
          <p:nvPr/>
        </p:nvSpPr>
        <p:spPr>
          <a:xfrm>
            <a:off x="395280" y="171000"/>
            <a:ext cx="85694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ч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п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о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ог потенцијала 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у 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резултат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уласк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позитивних јона калцијум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(Ca</a:t>
            </a:r>
            <a:r>
              <a:rPr b="0" lang="sr-Latn-C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ћелиј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 и 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чвору долази до успоравања импул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азлоз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водна влакна су много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ма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него влакн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ло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мало прелазних споје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овезује узастопна влакна па је велики отпор проласку јона кроз вла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29" descr=""/>
          <p:cNvPicPr/>
          <p:nvPr/>
        </p:nvPicPr>
        <p:blipFill>
          <a:blip r:embed="rId1"/>
          <a:stretch/>
        </p:blipFill>
        <p:spPr>
          <a:xfrm>
            <a:off x="2195640" y="4149720"/>
            <a:ext cx="4267080" cy="24670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79280" y="1268280"/>
            <a:ext cx="335304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рзина провођ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најмања у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AV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чвору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пушта да се комо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вољно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пуне пре нег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о наступ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њихова контракц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о је брзи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вођења кроз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V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вор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ећа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уњење комора може бити смањен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381640" cy="59054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24000" y="549360"/>
            <a:ext cx="381636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Брзина провођењ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казује време које је потребно да би се ексцитација проширила кроз срчано ткиво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виси од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величине уласка позитивних јона у ћелију током фазе успона акционог потенцијал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ћи улазак јона доводи до веће брзине провођењ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ајвећа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брзина провођења у спроводном систему срца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је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у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Хис-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Пуркиње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овом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систему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, што омогућава синхрону контракцију миокарда комора у систоли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4211640" y="549360"/>
            <a:ext cx="4753080" cy="56894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560" y="333000"/>
            <a:ext cx="87138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а регистровања акционих потенцијала срца назива с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КАРДИОГРАФИЈА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парат којим се региструју акциони потенцијали срца зове с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КАРДИОГРАФ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фички запис који се добија притом назива с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КАРДИОГРАМ (ЕКГ)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струје се на посебном папиру који је подељен на милиметре вертикалним и хоризонталним линијама а на сваких 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m линије су подебљ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рзина кретања папира при регистровању износи 2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m/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оризонтална оса - време (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4 s), вертикална оса - волтажа (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m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www.sweethaven02.com/MedTech/CardiacRhythm/571.ht4.gif"/>
          <p:cNvPicPr/>
          <p:nvPr/>
        </p:nvPicPr>
        <p:blipFill>
          <a:blip r:embed="rId1"/>
          <a:stretch/>
        </p:blipFill>
        <p:spPr>
          <a:xfrm>
            <a:off x="1332000" y="3857760"/>
            <a:ext cx="6076800" cy="30002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7631280" y="1159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Е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1295280" y="22752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ФИЗИОЛОГИЈА СРЧАНОГ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80880" y="1098360"/>
            <a:ext cx="3830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нтеркалатни дис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 јављају на крајевима ћел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Gap junctions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озне в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 присутне на интеркалатним дисковим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 с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утеви ниског отп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међу ћелија који омогућавају брзи пренос акционог 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јашњавају чињеницу да се срце понаша као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електрични синцицијум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4140360" y="1125360"/>
            <a:ext cx="50036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Интерпретација ЕКГ – 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http://www.merckmanuals.com/media/professional/figures/MMPE_07CVS_70_02_eps.gif"/>
          <p:cNvPicPr/>
          <p:nvPr/>
        </p:nvPicPr>
        <p:blipFill>
          <a:blip r:embed="rId1"/>
          <a:stretch/>
        </p:blipFill>
        <p:spPr>
          <a:xfrm>
            <a:off x="611280" y="1197000"/>
            <a:ext cx="7993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8000" y="-360"/>
            <a:ext cx="518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Г запис је бифазичан (када је правац деполаризације под углом од 90° према осовини одвода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лови ЕКГ–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ала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деполаризација претком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 постоји 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усни ритам (из SA чвора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 не постоји →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најчешће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дални ритам (из AV чвора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5-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Q сегмент = плато фаза потенцијала преткоморског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окарда,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пагација импулса кроз AV чвор и Хисов сноп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оелектричан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Q интервал = деполаризација преткомора, AV чвора и Хисовог снопа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-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krivulja"/>
          <p:cNvPicPr/>
          <p:nvPr/>
        </p:nvPicPr>
        <p:blipFill>
          <a:blip r:embed="rId1"/>
          <a:stretch/>
        </p:blipFill>
        <p:spPr>
          <a:xfrm>
            <a:off x="5148360" y="1125360"/>
            <a:ext cx="3995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4321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R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комплек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деполаризација комо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8-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сегмент =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ато фаза потенцијала коморског миокарда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оелектрича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T интервал = целокупна електрична активност комо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-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тала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реполаризација комо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-0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krivulja"/>
          <p:cNvPicPr/>
          <p:nvPr/>
        </p:nvPicPr>
        <p:blipFill>
          <a:blip r:embed="rId2"/>
          <a:stretch/>
        </p:blipFill>
        <p:spPr>
          <a:xfrm>
            <a:off x="4643280" y="1125360"/>
            <a:ext cx="410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гистровање ЕКГ-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Г се стандардно региструје 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одво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са екстремитет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стандардна биполарна (I, II, III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 појачана униполарна  (aVR, aVL, aVF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са прекордију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1 – V6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аки ЕКГ одвод им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вину = права између постављених елект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ијентацију = положај осовине (хоризонталан, вертикалан, дијагоналан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аритет = ло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ја позитивног и негативног пола електрода ЕКГ апарата које се налазе на крајевима осов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Чему служе одвод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98100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Биполарним стандардним одводи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I, II, III) региструје се разлика у потенцијалу између два изабрана мес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екстремите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Појачаним униполарним екстремитетн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aVR, aVL, aVF)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прекордијалн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V1 – V6) одводима се региструје укупан потенцијал срца који стиже до одговарајућег екстремитета или тачке прекордију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кстремитетни одводи служе за брзу процену положаја срца у грудној дупљ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кордијални одводи служе за процену физиолошког стања или оштећења срчаног мишић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тандардни  биполарни одвод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8920" y="1413000"/>
            <a:ext cx="4032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 одвод = између десне руке (-) и леве руке (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 одвод = између десне руке (-) и леве ноге (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I одвод = између леве руке (-) и леве ноге (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http://www.cvrti.utah.edu/~macleod/bioen/be6000/labnotes/ecg/figures/limbleads.jpg"/>
          <p:cNvPicPr/>
          <p:nvPr/>
        </p:nvPicPr>
        <p:blipFill>
          <a:blip r:embed="rId1"/>
          <a:stretch/>
        </p:blipFill>
        <p:spPr>
          <a:xfrm>
            <a:off x="4356000" y="1773360"/>
            <a:ext cx="444816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le 1"/>
          <p:cNvSpPr/>
          <p:nvPr/>
        </p:nvSpPr>
        <p:spPr>
          <a:xfrm>
            <a:off x="250920" y="189000"/>
            <a:ext cx="82296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тандардни  биполарни одвод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403280" y="1844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 одв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одво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 од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ipolarni odvodi"/>
          <p:cNvPicPr/>
          <p:nvPr/>
        </p:nvPicPr>
        <p:blipFill>
          <a:blip r:embed="rId1"/>
          <a:stretch/>
        </p:blipFill>
        <p:spPr>
          <a:xfrm>
            <a:off x="1332000" y="2781360"/>
            <a:ext cx="570528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ојачани униполарни одво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9280" y="162864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VR, aVL, aV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= појачање за 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= волтаж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 (right)= десна ру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 (left)= лева ру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 (foot)=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ев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но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зитиван пол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е спаја са региструјућим електродама, 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егативан по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са нултом тачком за коју су унутрашњом синхронизацијом повезана сва три екстремите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http://www.cvphysiology.com/Arrhythmias/A013b%20ECG%20aug%20leads.gif"/>
          <p:cNvPicPr/>
          <p:nvPr/>
        </p:nvPicPr>
        <p:blipFill>
          <a:blip r:embed="rId1"/>
          <a:stretch/>
        </p:blipFill>
        <p:spPr>
          <a:xfrm>
            <a:off x="6156360" y="1341360"/>
            <a:ext cx="2808360" cy="496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31687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250920" y="581760"/>
            <a:ext cx="381636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 u="sng">
                <a:solidFill>
                  <a:srgbClr val="000000"/>
                </a:solidFill>
                <a:uFillTx/>
                <a:latin typeface="Times New Roman"/>
              </a:rPr>
              <a:t>Митохондр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у бројније у срчаном него у скелетном мишићу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 </a:t>
            </a:r>
            <a:r>
              <a:rPr b="1" lang="sr-C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убу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дубоке инвагинације ћелијске мембра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лоциране су у области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Z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лин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и омогућавају преношење акционог потенцијала у унутрашњост ћел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добро су развијене у коморам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али слабо у преткомора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формирају тријаде са саркоплазматским ретикул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адрже волтаж-зависне протеине назване дихидропиридински рецеп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аркоплазматски ретикулум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1" lang="sr-C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Р</a:t>
            </a:r>
            <a:r>
              <a:rPr b="1" lang="sr-Latn-CS" sz="1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у тубуле малог дијаметра које се налазе у близини контрактилних елеменат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 су места где се складиште и из кога се ослобађају јони калцијум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(Ca</a:t>
            </a:r>
            <a:r>
              <a:rPr b="1" lang="sr-Latn-CS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за повезивање процеса ексцитације-контракциј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адрже канале за ослобађање калцијум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(Ca</a:t>
            </a:r>
            <a:r>
              <a:rPr b="1" lang="sr-Latn-CS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тзв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рианодински рецептор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82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ниполарни прекордијални одво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836280"/>
            <a:ext cx="8642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ложај електро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1 = 4. међуребарни простор уз десну ивицу стерн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2 = 4. међуребарни простор уз леву ивицу стерн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3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на средини између V2 и V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4 = 5. међуребарни простор на медиоклавикуларној линиј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5 = на предњој аксиларној лин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ста хоризонтална раван као V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6 = на средњој аксиларној лин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ight Brace 4"/>
          <p:cNvSpPr/>
          <p:nvPr/>
        </p:nvSpPr>
        <p:spPr>
          <a:xfrm>
            <a:off x="4500720" y="2565360"/>
            <a:ext cx="360360" cy="86364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863640"/>
              <a:gd name="textAreaBottom" fmla="*/ 8542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6"/>
                  <a:pt x="10800" y="751"/>
                </a:cubicBezTo>
                <a:lnTo>
                  <a:pt x="10800" y="10049"/>
                </a:lnTo>
                <a:cubicBezTo>
                  <a:pt x="10800" y="10425"/>
                  <a:pt x="16200" y="10800"/>
                  <a:pt x="21600" y="10800"/>
                </a:cubicBezTo>
                <a:cubicBezTo>
                  <a:pt x="16200" y="10800"/>
                  <a:pt x="10800" y="11176"/>
                  <a:pt x="10800" y="11551"/>
                </a:cubicBezTo>
                <a:lnTo>
                  <a:pt x="10800" y="20849"/>
                </a:lnTo>
                <a:cubicBezTo>
                  <a:pt x="10800" y="21225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1979640" y="4292640"/>
            <a:ext cx="56167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http://www.cardiacscience.com/assets/006/5576.jpg"/>
          <p:cNvPicPr/>
          <p:nvPr/>
        </p:nvPicPr>
        <p:blipFill>
          <a:blip r:embed="rId1"/>
          <a:stretch/>
        </p:blipFill>
        <p:spPr>
          <a:xfrm>
            <a:off x="179280" y="1916280"/>
            <a:ext cx="4537080" cy="4033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Униполарни прекордијални одвод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4606920" y="1916280"/>
            <a:ext cx="453708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Шта се може одредити уз помоћ ЕКГ-а?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реквен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и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совина (положај срц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ипертроф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фар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traight Connector 4"/>
          <p:cNvSpPr/>
          <p:nvPr/>
        </p:nvSpPr>
        <p:spPr>
          <a:xfrm>
            <a:off x="684360" y="3645000"/>
            <a:ext cx="5256000" cy="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525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реквен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 чвор = 60-10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 чвор = 40-6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ркињева влакна = 15-4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6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брадикард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00/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тахикард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ν = 60s/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04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 број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мањи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вадратића између два узастопна R зуп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5724360" y="549360"/>
            <a:ext cx="309564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834560" y="260280"/>
            <a:ext cx="60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еквенца 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о одређ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56"/>
          <p:cNvPicPr/>
          <p:nvPr/>
        </p:nvPicPr>
        <p:blipFill>
          <a:blip r:embed="rId1"/>
          <a:stretch/>
        </p:blipFill>
        <p:spPr>
          <a:xfrm>
            <a:off x="4572000" y="3141720"/>
            <a:ext cx="4321080" cy="335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64"/>
          <p:cNvPicPr/>
          <p:nvPr/>
        </p:nvPicPr>
        <p:blipFill>
          <a:blip r:embed="rId2"/>
          <a:stretch/>
        </p:blipFill>
        <p:spPr>
          <a:xfrm>
            <a:off x="108000" y="3068640"/>
            <a:ext cx="4392720" cy="34243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468360" y="1052640"/>
            <a:ext cx="7920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одређивање фреквенце на овај начин гледамо на ЕКГ запису (траци) вертикалне дебеле црвене линије (5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5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упца који је “пао” на једну од дебелих вертикалних линија почињемо бројање до следећег (претходног или наредн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упца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58"/>
          <p:cNvPicPr/>
          <p:nvPr/>
        </p:nvPicPr>
        <p:blipFill>
          <a:blip r:embed="rId1"/>
          <a:stretch/>
        </p:blipFill>
        <p:spPr>
          <a:xfrm>
            <a:off x="179280" y="1413000"/>
            <a:ext cx="4753080" cy="37274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1762920" y="189000"/>
            <a:ext cx="60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еквенца 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о одређ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ит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79280" y="1341360"/>
            <a:ext cx="446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итам 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же би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регуларан, срчани циклуси се смењују у једнаким временским интервалима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ЕКГ-у једнаки размаци између узастопних R зуба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равил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ирегуларан, arrhythm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броје се најмањи квадрати између узастопних R зубаца и упоређује време (1 квадрат = 0,04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http://www.bannerhealth.com/NR/rdonlyres/5CFF4A7B-01B5-4B7A-BF9B-02737DF18C02/24233/normal_heart_rhythm.jpg"/>
          <p:cNvPicPr/>
          <p:nvPr/>
        </p:nvPicPr>
        <p:blipFill>
          <a:blip r:embed="rId1"/>
          <a:stretch/>
        </p:blipFill>
        <p:spPr>
          <a:xfrm>
            <a:off x="4788000" y="2205000"/>
            <a:ext cx="4105080" cy="1440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http://pediatriccardiology.uchicago.edu/pp/Images/atrial_fib.jpg"/>
          <p:cNvPicPr/>
          <p:nvPr/>
        </p:nvPicPr>
        <p:blipFill>
          <a:blip r:embed="rId2"/>
          <a:stretch/>
        </p:blipFill>
        <p:spPr>
          <a:xfrm>
            <a:off x="4859280" y="4221000"/>
            <a:ext cx="396072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овина (положај) срца- средњи електрични вектор ср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50920" y="1484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њи електрични вектор срца (средњи QRS вектор)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средња јачина, смер и поларитет целокупног потенцијала сваког срчаног циклуса; смер срчаног вектора током деполаризације у фронталној рав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њи QRS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 одређује преко 3 или 6-осног система који се добијају укрштањем осовина свих 6 одвода фронталне равни (екстремитетни одводи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трална тачка система јесте центар тј. сред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совина одв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прецизно одређивање положаја средњег QRS вектора користи с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inthoven–ов зак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рафички Einthoven–ов троугао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ма овом закону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збир волтажа QRS комплекса I и III одвода једнак је збиру волтажа QRS комплекса II одв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http://www.adinstruments.com/solutions/images/standard-leadscopy.gif"/>
          <p:cNvPicPr/>
          <p:nvPr/>
        </p:nvPicPr>
        <p:blipFill>
          <a:blip r:embed="rId1"/>
          <a:stretch/>
        </p:blipFill>
        <p:spPr>
          <a:xfrm>
            <a:off x="395280" y="1989000"/>
            <a:ext cx="4392720" cy="4032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539640" y="333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ер средњег електричног вектора срца (средњег QRS вектора) мож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 одредити  двојак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матички = графи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рзо одређивање смера средњег QRS 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4859280" y="2276640"/>
            <a:ext cx="370836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ontent Placeholder 2"/>
          <p:cNvSpPr/>
          <p:nvPr/>
        </p:nvSpPr>
        <p:spPr>
          <a:xfrm>
            <a:off x="457200" y="260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tent Placeholder 2"/>
          <p:cNvSpPr/>
          <p:nvPr/>
        </p:nvSpPr>
        <p:spPr>
          <a:xfrm>
            <a:off x="609480" y="412920"/>
            <a:ext cx="822960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тематички = граф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мер средње електричне осовине срца се одређује тако што се прво одреди збир → волтажа R – (S + Q) и смер (позитивна/негативна волтажа) волтаже QRS комплекса било која два од три стандардна од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о су нето волтаж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носе се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ловину осе и обрну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medicine-on-line.com/html/ecg/e0001en_files/image126.png"/>
          <p:cNvPicPr/>
          <p:nvPr/>
        </p:nvPicPr>
        <p:blipFill>
          <a:blip r:embed="rId1"/>
          <a:stretch/>
        </p:blipFill>
        <p:spPr>
          <a:xfrm>
            <a:off x="3492360" y="3213000"/>
            <a:ext cx="33832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РИТМИЧКА ЕКСЦИТАЦИЈА СР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34100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ани мишић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се састоји из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дне мускулатур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преткоморски и коморски мишић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проводног систем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чине га специјализована мишићна влак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А чв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V чвор – АV сноп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исов сно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уркинијева влак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Математички = графи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http://media.jaapa.com/images/2010/07/29/ecg_lead_angulation_112669_112670.gif"/>
          <p:cNvPicPr/>
          <p:nvPr/>
        </p:nvPicPr>
        <p:blipFill>
          <a:blip r:embed="rId1"/>
          <a:stretch/>
        </p:blipFill>
        <p:spPr>
          <a:xfrm>
            <a:off x="5796000" y="3860640"/>
            <a:ext cx="2808360" cy="2664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http://www.madsci.com/manu/ekg_pics/vector.gif"/>
          <p:cNvPicPr/>
          <p:nvPr/>
        </p:nvPicPr>
        <p:blipFill>
          <a:blip r:embed="rId2"/>
          <a:stretch/>
        </p:blipFill>
        <p:spPr>
          <a:xfrm>
            <a:off x="755640" y="4005360"/>
            <a:ext cx="280836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http://www.vhlab.umn.edu/~bmen3701/Images/lead_axis_reference.gif"/>
          <p:cNvPicPr/>
          <p:nvPr/>
        </p:nvPicPr>
        <p:blipFill>
          <a:blip r:embed="rId3"/>
          <a:stretch/>
        </p:blipFill>
        <p:spPr>
          <a:xfrm>
            <a:off x="755640" y="765000"/>
            <a:ext cx="7632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5"/>
          <p:cNvSpPr/>
          <p:nvPr/>
        </p:nvSpPr>
        <p:spPr>
          <a:xfrm>
            <a:off x="2340000" y="2565360"/>
            <a:ext cx="3209760" cy="90360"/>
          </a:xfrm>
          <a:prstGeom prst="rightArrow">
            <a:avLst>
              <a:gd name="adj1" fmla="val 50000"/>
              <a:gd name="adj2" fmla="val 888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 rot="8128200">
            <a:off x="2053440" y="2597040"/>
            <a:ext cx="3210120" cy="90720"/>
          </a:xfrm>
          <a:prstGeom prst="rightArrow">
            <a:avLst>
              <a:gd name="adj1" fmla="val 50000"/>
              <a:gd name="adj2" fmla="val 8846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AutoShape 7"/>
          <p:cNvCxnSpPr/>
          <p:nvPr/>
        </p:nvCxnSpPr>
        <p:spPr>
          <a:xfrm>
            <a:off x="3708360" y="2565000"/>
            <a:ext cx="5814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5" name="AutoShape 8"/>
          <p:cNvCxnSpPr/>
          <p:nvPr/>
        </p:nvCxnSpPr>
        <p:spPr>
          <a:xfrm flipH="1">
            <a:off x="3059280" y="2565360"/>
            <a:ext cx="638280" cy="667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6" name="AutoShape 9"/>
          <p:cNvCxnSpPr/>
          <p:nvPr/>
        </p:nvCxnSpPr>
        <p:spPr>
          <a:xfrm>
            <a:off x="4284360" y="2565000"/>
            <a:ext cx="1080" cy="21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AutoShape 10"/>
          <p:cNvCxnSpPr/>
          <p:nvPr/>
        </p:nvCxnSpPr>
        <p:spPr>
          <a:xfrm>
            <a:off x="3059280" y="3213000"/>
            <a:ext cx="1553040" cy="1581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" name="AutoShape 11"/>
          <p:cNvCxnSpPr/>
          <p:nvPr/>
        </p:nvCxnSpPr>
        <p:spPr>
          <a:xfrm>
            <a:off x="3708360" y="2637000"/>
            <a:ext cx="581400" cy="1838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9" name=""/>
          <p:cNvSpPr txBox="1"/>
          <p:nvPr/>
        </p:nvSpPr>
        <p:spPr>
          <a:xfrm>
            <a:off x="468000" y="692280"/>
            <a:ext cx="835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Математички = графи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рви одво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Угао под којим се срце налаз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у грудној дупљи (59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Трећи од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Смер средње електричне осовине срц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us 15"/>
          <p:cNvSpPr/>
          <p:nvPr/>
        </p:nvSpPr>
        <p:spPr>
          <a:xfrm>
            <a:off x="5003640" y="2276640"/>
            <a:ext cx="289080" cy="215640"/>
          </a:xfrm>
          <a:custGeom>
            <a:avLst/>
            <a:gdLst>
              <a:gd name="textAreaLeft" fmla="*/ 38160 w 289080"/>
              <a:gd name="textAreaRight" fmla="*/ 250920 w 289080"/>
              <a:gd name="textAreaTop" fmla="*/ 82440 h 215640"/>
              <a:gd name="textAreaBottom" fmla="*/ 133200 h 215640"/>
            </a:gdLst>
            <a:ahLst/>
            <a:rect l="textAreaLeft" t="textAreaTop" r="textAreaRight" b="textAreaBottom"/>
            <a:pathLst>
              <a:path w="288925" h="215900">
                <a:moveTo>
                  <a:pt x="38297" y="82560"/>
                </a:moveTo>
                <a:lnTo>
                  <a:pt x="119073" y="82560"/>
                </a:lnTo>
                <a:lnTo>
                  <a:pt x="119073" y="28618"/>
                </a:lnTo>
                <a:lnTo>
                  <a:pt x="169852" y="28618"/>
                </a:lnTo>
                <a:lnTo>
                  <a:pt x="169852" y="82560"/>
                </a:lnTo>
                <a:lnTo>
                  <a:pt x="250628" y="82560"/>
                </a:lnTo>
                <a:lnTo>
                  <a:pt x="250628" y="133340"/>
                </a:lnTo>
                <a:lnTo>
                  <a:pt x="169852" y="133340"/>
                </a:lnTo>
                <a:lnTo>
                  <a:pt x="169852" y="187282"/>
                </a:lnTo>
                <a:lnTo>
                  <a:pt x="119073" y="187282"/>
                </a:lnTo>
                <a:lnTo>
                  <a:pt x="119073" y="133340"/>
                </a:lnTo>
                <a:lnTo>
                  <a:pt x="38297" y="13334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us 16"/>
          <p:cNvSpPr/>
          <p:nvPr/>
        </p:nvSpPr>
        <p:spPr>
          <a:xfrm>
            <a:off x="2268360" y="3500280"/>
            <a:ext cx="287640" cy="216000"/>
          </a:xfrm>
          <a:custGeom>
            <a:avLst/>
            <a:gdLst>
              <a:gd name="textAreaLeft" fmla="*/ 38160 w 287640"/>
              <a:gd name="textAreaRight" fmla="*/ 249480 w 287640"/>
              <a:gd name="textAreaTop" fmla="*/ 82440 h 216000"/>
              <a:gd name="textAreaBottom" fmla="*/ 133560 h 216000"/>
            </a:gdLst>
            <a:ahLst/>
            <a:rect l="textAreaLeft" t="textAreaTop" r="textAreaRight" b="textAreaBottom"/>
            <a:pathLst>
              <a:path w="287337" h="215900">
                <a:moveTo>
                  <a:pt x="38087" y="82560"/>
                </a:moveTo>
                <a:lnTo>
                  <a:pt x="118279" y="82560"/>
                </a:lnTo>
                <a:lnTo>
                  <a:pt x="118279" y="28618"/>
                </a:lnTo>
                <a:lnTo>
                  <a:pt x="169058" y="28618"/>
                </a:lnTo>
                <a:lnTo>
                  <a:pt x="169058" y="82560"/>
                </a:lnTo>
                <a:lnTo>
                  <a:pt x="249250" y="82560"/>
                </a:lnTo>
                <a:lnTo>
                  <a:pt x="249250" y="133340"/>
                </a:lnTo>
                <a:lnTo>
                  <a:pt x="169058" y="133340"/>
                </a:lnTo>
                <a:lnTo>
                  <a:pt x="169058" y="187282"/>
                </a:lnTo>
                <a:lnTo>
                  <a:pt x="118279" y="187282"/>
                </a:lnTo>
                <a:lnTo>
                  <a:pt x="118279" y="133340"/>
                </a:lnTo>
                <a:lnTo>
                  <a:pt x="38087" y="13334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Minus 17"/>
          <p:cNvSpPr/>
          <p:nvPr/>
        </p:nvSpPr>
        <p:spPr>
          <a:xfrm>
            <a:off x="2268360" y="2349360"/>
            <a:ext cx="216000" cy="216000"/>
          </a:xfrm>
          <a:custGeom>
            <a:avLst/>
            <a:gdLst>
              <a:gd name="textAreaLeft" fmla="*/ 28440 w 216000"/>
              <a:gd name="textAreaRight" fmla="*/ 187560 w 216000"/>
              <a:gd name="textAreaTop" fmla="*/ 82440 h 216000"/>
              <a:gd name="textAreaBottom" fmla="*/ 133560 h 216000"/>
            </a:gdLst>
            <a:ahLst/>
            <a:rect l="textAreaLeft" t="textAreaTop" r="textAreaRight" b="textAreaBottom"/>
            <a:pathLst>
              <a:path w="215900" h="215900">
                <a:moveTo>
                  <a:pt x="28618" y="82560"/>
                </a:moveTo>
                <a:lnTo>
                  <a:pt x="187282" y="82560"/>
                </a:lnTo>
                <a:lnTo>
                  <a:pt x="187282" y="133340"/>
                </a:lnTo>
                <a:lnTo>
                  <a:pt x="28618" y="13334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Minus 19"/>
          <p:cNvSpPr/>
          <p:nvPr/>
        </p:nvSpPr>
        <p:spPr>
          <a:xfrm>
            <a:off x="4500720" y="1413000"/>
            <a:ext cx="215640" cy="215640"/>
          </a:xfrm>
          <a:custGeom>
            <a:avLst/>
            <a:gdLst>
              <a:gd name="textAreaLeft" fmla="*/ 28440 w 215640"/>
              <a:gd name="textAreaRight" fmla="*/ 187200 w 215640"/>
              <a:gd name="textAreaTop" fmla="*/ 82440 h 215640"/>
              <a:gd name="textAreaBottom" fmla="*/ 133200 h 215640"/>
            </a:gdLst>
            <a:ahLst/>
            <a:rect l="textAreaLeft" t="textAreaTop" r="textAreaRight" b="textAreaBottom"/>
            <a:pathLst>
              <a:path w="215900" h="215900">
                <a:moveTo>
                  <a:pt x="28618" y="82560"/>
                </a:moveTo>
                <a:lnTo>
                  <a:pt x="187282" y="82560"/>
                </a:lnTo>
                <a:lnTo>
                  <a:pt x="187282" y="133340"/>
                </a:lnTo>
                <a:lnTo>
                  <a:pt x="28618" y="13334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urved Left Arrow 20"/>
          <p:cNvSpPr/>
          <p:nvPr/>
        </p:nvSpPr>
        <p:spPr>
          <a:xfrm>
            <a:off x="3851280" y="2565360"/>
            <a:ext cx="360360" cy="43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74160 h 432000"/>
              <a:gd name="textAreaBottom" fmla="*/ 312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20" stAng="-5400000" swAng="5400000"/>
                <a:lnTo>
                  <a:pt x="21600" y="11927"/>
                </a:lnTo>
                <a:arcTo wR="21600" hR="7420" stAng="0" swAng="3184222"/>
                <a:lnTo>
                  <a:pt x="5400" y="21364"/>
                </a:lnTo>
                <a:lnTo>
                  <a:pt x="0" y="17094"/>
                </a:lnTo>
                <a:lnTo>
                  <a:pt x="5400" y="12351"/>
                </a:lnTo>
                <a:lnTo>
                  <a:pt x="5400" y="14604"/>
                </a:lnTo>
                <a:arcTo wR="21600" hR="7420" stAng="3184222" swAng="-2809280"/>
                <a:lnTo>
                  <a:pt x="20580" y="9674"/>
                </a:lnTo>
                <a:arcTo wR="21600" hR="7420" stAng="-374943" swAng="-5025057"/>
                <a:close/>
              </a:path>
              <a:path fill="darkenLess" w="21600" h="21600">
                <a:moveTo>
                  <a:pt x="0" y="0"/>
                </a:moveTo>
                <a:arcTo wR="21600" hR="7420" stAng="-5400000" swAng="5400000"/>
                <a:lnTo>
                  <a:pt x="21600" y="11927"/>
                </a:lnTo>
                <a:arcTo wR="21600" hR="7420" stAng="0" swAng="-374943"/>
                <a:lnTo>
                  <a:pt x="20580" y="9674"/>
                </a:lnTo>
                <a:arcTo wR="21600" hR="7420" stAng="-374943" swAng="-502505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Straight Arrow Connector 22"/>
          <p:cNvCxnSpPr/>
          <p:nvPr/>
        </p:nvCxnSpPr>
        <p:spPr>
          <a:xfrm>
            <a:off x="4211280" y="2852280"/>
            <a:ext cx="230544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6" name="Straight Arrow Connector 24"/>
          <p:cNvCxnSpPr/>
          <p:nvPr/>
        </p:nvCxnSpPr>
        <p:spPr>
          <a:xfrm>
            <a:off x="3995280" y="3499920"/>
            <a:ext cx="1801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87" name="Picture 18" descr="ekg traka I odvod"/>
          <p:cNvPicPr/>
          <p:nvPr/>
        </p:nvPicPr>
        <p:blipFill>
          <a:blip r:embed="rId1"/>
          <a:stretch/>
        </p:blipFill>
        <p:spPr>
          <a:xfrm>
            <a:off x="5796000" y="692280"/>
            <a:ext cx="2560680" cy="649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ekg traka III odvod"/>
          <p:cNvPicPr/>
          <p:nvPr/>
        </p:nvPicPr>
        <p:blipFill>
          <a:blip r:embed="rId2"/>
          <a:stretch/>
        </p:blipFill>
        <p:spPr>
          <a:xfrm>
            <a:off x="5796000" y="1557360"/>
            <a:ext cx="256068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рзо одређивање смера средњег QRS вект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50560" y="1341360"/>
            <a:ext cx="8569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ристе се нето волтаже у I стандардном биполарном одводу и нето волтажа aV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Екстремна дес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девија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кстрем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лева девија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(левогра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ормогр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Дес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Девија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(декстрогра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5" descr="http://flylib.com/books/2/569/1/html/2/19.%20Basic%20ECG%20Reading_files/loadBinary_019.gif"/>
          <p:cNvPicPr/>
          <p:nvPr/>
        </p:nvPicPr>
        <p:blipFill>
          <a:blip r:embed="rId1"/>
          <a:stretch/>
        </p:blipFill>
        <p:spPr>
          <a:xfrm>
            <a:off x="1908000" y="2349360"/>
            <a:ext cx="4967640" cy="4032360"/>
          </a:xfrm>
          <a:prstGeom prst="rect">
            <a:avLst/>
          </a:prstGeom>
          <a:ln w="0">
            <a:noFill/>
          </a:ln>
        </p:spPr>
      </p:pic>
      <p:cxnSp>
        <p:nvCxnSpPr>
          <p:cNvPr id="192" name="Straight Arrow Connector 5"/>
          <p:cNvCxnSpPr/>
          <p:nvPr/>
        </p:nvCxnSpPr>
        <p:spPr>
          <a:xfrm flipV="1">
            <a:off x="5579640" y="3573000"/>
            <a:ext cx="1801080" cy="288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3" name="Straight Arrow Connector 6"/>
          <p:cNvCxnSpPr/>
          <p:nvPr/>
        </p:nvCxnSpPr>
        <p:spPr>
          <a:xfrm>
            <a:off x="4643280" y="4436640"/>
            <a:ext cx="2593440" cy="289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4" name="Straight Arrow Connector 7"/>
          <p:cNvCxnSpPr/>
          <p:nvPr/>
        </p:nvCxnSpPr>
        <p:spPr>
          <a:xfrm flipH="1" flipV="1">
            <a:off x="1618920" y="2996640"/>
            <a:ext cx="2305440" cy="937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5" name="Straight Arrow Connector 8"/>
          <p:cNvCxnSpPr/>
          <p:nvPr/>
        </p:nvCxnSpPr>
        <p:spPr>
          <a:xfrm flipH="1">
            <a:off x="1258560" y="4581360"/>
            <a:ext cx="2304000" cy="50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284560" y="189000"/>
            <a:ext cx="43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КЦИОНИ ПОТЕНЦИЈАЛИ 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24000" y="927720"/>
            <a:ext cx="8351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оморе, преткоморе и Пуркињеов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мају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стабилан мировни мембрански потенцијал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од око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90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ливолт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ва вредност се приближава вредности равнотежног потенцијала з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циони потенцијал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дуго трај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рочито 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уркињеовим влакним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де трају око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лисекунди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411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836280" y="436572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азе акцион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енциј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468360" y="4437000"/>
            <a:ext cx="2872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635280" y="371628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924360" y="3933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156360" y="5805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3348000" y="494172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5003640" y="501336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24000" y="241200"/>
            <a:ext cx="851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 нагли скок потенција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стаје пролазним повећањем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оводљивости 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 доводи до уласка позитив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Calibri"/>
              </a:rPr>
              <a:t>+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она што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поларизује мембран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тенцијал тежи равнотежном потенцијалу 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195640" y="335772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67" name="Oval 1030"/>
          <p:cNvSpPr/>
          <p:nvPr/>
        </p:nvSpPr>
        <p:spPr>
          <a:xfrm>
            <a:off x="3124080" y="502920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24000" y="344520"/>
            <a:ext cx="776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 кратак период иницијалне реполариз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3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ницијална реполаризација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стаје као последица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изласка позитивног наелектрисања из ћелиј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делом услед кретањ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јона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аворизова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 стране хемијског и електричног градијент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 ћели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а делом услед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смањене проводљивости за јоне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N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4572000" cy="3155760"/>
          </a:xfrm>
          <a:prstGeom prst="rect">
            <a:avLst/>
          </a:prstGeom>
          <a:ln w="0">
            <a:noFill/>
          </a:ln>
        </p:spPr>
      </p:pic>
      <p:sp>
        <p:nvSpPr>
          <p:cNvPr id="71" name="Oval 1030"/>
          <p:cNvSpPr/>
          <p:nvPr/>
        </p:nvSpPr>
        <p:spPr>
          <a:xfrm>
            <a:off x="2987640" y="364500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340000" y="3429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395280" y="19836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lateau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ционог потенција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стаје услед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ролазног повећања проводљивости за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C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о доводи д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уласка позитивних јона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Ca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у ћелију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и смањења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роводљивости з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ком фаз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2,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излазак и улазак јона је приближно и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ако да се потенцијал мембране одржава на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плато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ниво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30"/>
          <p:cNvSpPr/>
          <p:nvPr/>
        </p:nvSpPr>
        <p:spPr>
          <a:xfrm>
            <a:off x="3851280" y="4005360"/>
            <a:ext cx="304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835280" y="3213000"/>
            <a:ext cx="4572000" cy="3156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324000" y="258840"/>
            <a:ext cx="8286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аз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поларизациј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ком фаз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3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водљив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 јо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C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 смању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к се проводљив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 јо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сока проводљивост за јо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води до великог излас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K</a:t>
            </a:r>
            <a:r>
              <a:rPr b="0" lang="sr-Latn-C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+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из ћелиј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што враћа потенцијал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мбране прем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внотежном потенцијалу з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поларизац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30"/>
          <p:cNvSpPr/>
          <p:nvPr/>
        </p:nvSpPr>
        <p:spPr>
          <a:xfrm>
            <a:off x="4356000" y="494172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8256240" y="11592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57:51Z</dcterms:created>
  <dc:creator>Maja</dc:creator>
  <dc:description/>
  <dc:language>en-US</dc:language>
  <cp:lastModifiedBy>User</cp:lastModifiedBy>
  <dcterms:modified xsi:type="dcterms:W3CDTF">2014-10-01T14:43:12Z</dcterms:modified>
  <cp:revision>156</cp:revision>
  <dc:subject/>
  <dc:title>Slide 1</dc:title>
</cp:coreProperties>
</file>